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ED76-ED54-44ED-AF12-6CE60872F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33504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35E6E-605A-46B5-BEDD-C70DF3758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33504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333504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9450-975F-4EFC-9463-E4FC977B2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06632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06632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33504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333504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3335040"/>
            <a:ext cx="2600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B665-680D-4DD2-BC7B-DF37E89A31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066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0607-EBB4-46E4-9346-D0EC069DB2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3A3E-AA20-4E8E-BD3B-3EF7C0E32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06632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99AD-78C3-4FEF-A664-1686F8D44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E981-C244-4DF8-BC47-537C6562A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610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E0B1-706B-4A31-9288-0750AE865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06632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33504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673D-24FC-47E9-B224-87CF1B5F8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41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333504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965D-6438-4061-8C4C-FD58AF124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1240"/>
            <a:ext cx="8610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066320"/>
            <a:ext cx="39416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335040"/>
            <a:ext cx="807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AEE2-CF58-425D-879C-4DDFE9D38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0663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240" y="640044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rainbow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8227800" cy="60120"/>
          </a:xfrm>
          <a:prstGeom prst="rect">
            <a:avLst/>
          </a:prstGeom>
          <a:ln w="0">
            <a:noFill/>
          </a:ln>
        </p:spPr>
      </p:pic>
      <p:pic>
        <p:nvPicPr>
          <p:cNvPr id="4" name="rainbow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8228160" cy="60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800" y="640044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A7C1-C2F4-4648-A4A3-F69C4FC6A41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Kirill Filimonov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Lawrence Berkeley National Labora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90720"/>
            <a:ext cx="9144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isotropy and high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adrons in Au+Au collisions at R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505320"/>
            <a:ext cx="7391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ve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s and di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imuthal anisotropy at high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BC96-E474-428E-B53B-AE476871F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redictions at high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ivan_4_new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5715000" cy="4022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724280" y="152388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Gyulassy, I. Vitev and X.N.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18288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L 86 (2001) 25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62320"/>
            <a:ext cx="320040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he value of v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at high p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sensitive to the initial gluon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aturation and decrease of v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as a function of p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 higher p</a:t>
            </a:r>
            <a:r>
              <a:rPr b="0" lang="en-US" sz="2000" spc="-1" strike="noStrike" baseline="-25000">
                <a:solidFill>
                  <a:srgbClr val="cc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5880" y="990720"/>
            <a:ext cx="7805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QC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elas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nergy loss + parameteriz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ydr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5A39F-A901-4B27-BECF-4504870583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with models (130 Ge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highpt_pqcd_color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16480" cy="44416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98320" y="5562720"/>
            <a:ext cx="72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qualitative agreement with “jet-quenching”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0880" y="9144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l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nucl-ex/0206006, 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998E8-F525-499E-9008-8CC431800A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 dependence at high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200/130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52280" y="1295280"/>
            <a:ext cx="3962520" cy="3733920"/>
            <a:chOff x="152280" y="1295280"/>
            <a:chExt cx="3962520" cy="3733920"/>
          </a:xfrm>
        </p:grpSpPr>
        <p:pic>
          <p:nvPicPr>
            <p:cNvPr id="242" name="RootSRatio_pQCDCalc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396252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49440" y="2052000"/>
              <a:ext cx="3385800" cy="0"/>
            </a:xfrm>
            <a:prstGeom prst="line">
              <a:avLst/>
            </a:prstGeom>
            <a:ln w="158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59520" y="3157200"/>
              <a:ext cx="3371040" cy="5040"/>
            </a:xfrm>
            <a:prstGeom prst="line">
              <a:avLst/>
            </a:prstGeom>
            <a:ln w="158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9520" y="4247280"/>
              <a:ext cx="3386160" cy="0"/>
            </a:xfrm>
            <a:prstGeom prst="line">
              <a:avLst/>
            </a:prstGeom>
            <a:ln w="158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09160" y="838080"/>
            <a:ext cx="2460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TAR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minbias_130_200_ratio" descr=""/>
          <p:cNvPicPr/>
          <p:nvPr/>
        </p:nvPicPr>
        <p:blipFill>
          <a:blip r:embed="rId2"/>
          <a:srcRect l="0" t="0" r="6024" b="0"/>
          <a:stretch/>
        </p:blipFill>
        <p:spPr>
          <a:xfrm>
            <a:off x="4572000" y="1523880"/>
            <a:ext cx="4572000" cy="3035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88240" y="8524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atio of spectra 200/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560" y="1295280"/>
            <a:ext cx="21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Ratio of 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200/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7800" y="5105520"/>
            <a:ext cx="70077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clusive spectra follow pQCD prediction (XN Wa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inbias v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has no energy dependence at p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&gt;2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urface emission at high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? (i.e. strong absorp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980720" y="3962520"/>
            <a:ext cx="685800" cy="12952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730680" y="3123720"/>
            <a:ext cx="3127320" cy="245772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AC45-E722-4EFF-AB57-16085A619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ality dependence of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457200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urates for p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&gt;3 GeV/c for all centr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dication of geometric orig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52280" y="990720"/>
          <a:ext cx="43434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4343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5946840" y="16509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8880" y="83808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IX,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highpt_3cent_color" descr=""/>
          <p:cNvPicPr/>
          <p:nvPr/>
        </p:nvPicPr>
        <p:blipFill>
          <a:blip r:embed="rId3"/>
          <a:stretch/>
        </p:blipFill>
        <p:spPr>
          <a:xfrm>
            <a:off x="4267080" y="990720"/>
            <a:ext cx="4876920" cy="3043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169680" y="83808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, 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21F5-380B-40CB-9AAE-8F0F16CCD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with parton casc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3160" y="4800600"/>
            <a:ext cx="6225120" cy="1065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oes v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saturate for all spec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ill v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crease beyond 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6 GeV/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highpt_molnar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6095880" cy="3807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095880" y="1143000"/>
            <a:ext cx="26830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ol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x minijet multiplicity     from HIJ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x pQCD g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g 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1080" y="33526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FCD8-0AD9-4313-8248-E35A8C758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proposed scenario: flavor 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v2-prot-pi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53080" cy="4270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-10080" y="990720"/>
            <a:ext cx="91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yon production by a non-perturbative mechanism (junctions or hyd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90920" y="1447920"/>
            <a:ext cx="449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Gyulassy, I. Vitev, X.N. Wang and P. Huovinen, Phys. Lett. B 526 (2002) 301-3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2AD3-4162-4633-86A0-5175921395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sky-fig15" descr=""/>
          <p:cNvPicPr/>
          <p:nvPr/>
        </p:nvPicPr>
        <p:blipFill>
          <a:blip r:embed="rId1"/>
          <a:srcRect l="0" t="0" r="50254" b="0"/>
          <a:stretch/>
        </p:blipFill>
        <p:spPr>
          <a:xfrm>
            <a:off x="380880" y="350532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271" name="v2_rich" descr=""/>
          <p:cNvPicPr/>
          <p:nvPr/>
        </p:nvPicPr>
        <p:blipFill>
          <a:blip r:embed="rId2"/>
          <a:srcRect l="0" t="3387" r="0" b="0"/>
          <a:stretch/>
        </p:blipFill>
        <p:spPr>
          <a:xfrm>
            <a:off x="228600" y="838080"/>
            <a:ext cx="4191120" cy="2743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905120" y="259092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identified had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657600"/>
            <a:ext cx="4038480" cy="28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esons and baryons s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fferent trend at higher p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Qualitative agreement with the 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v2_k0_lambda_new" descr=""/>
          <p:cNvPicPr/>
          <p:nvPr/>
        </p:nvPicPr>
        <p:blipFill>
          <a:blip r:embed="rId3"/>
          <a:srcRect l="0" t="3387" r="0" b="0"/>
          <a:stretch/>
        </p:blipFill>
        <p:spPr>
          <a:xfrm>
            <a:off x="4419720" y="839880"/>
            <a:ext cx="4049640" cy="2652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5880" y="25146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525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ENIX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5120" y="3733920"/>
            <a:ext cx="143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pi-&amp;K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p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D013-66A8-4194-8C0A-C1DE554C49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up to 12 GeV/c (ST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v2_cent-0-10-noboxes" descr=""/>
          <p:cNvPicPr/>
          <p:nvPr/>
        </p:nvPicPr>
        <p:blipFill>
          <a:blip r:embed="rId1"/>
          <a:srcRect l="0" t="6451" r="0" b="0"/>
          <a:stretch/>
        </p:blipFill>
        <p:spPr>
          <a:xfrm>
            <a:off x="304920" y="914400"/>
            <a:ext cx="3352680" cy="1957320"/>
          </a:xfrm>
          <a:prstGeom prst="rect">
            <a:avLst/>
          </a:prstGeom>
          <a:ln w="0">
            <a:noFill/>
          </a:ln>
        </p:spPr>
      </p:pic>
      <p:pic>
        <p:nvPicPr>
          <p:cNvPr id="281" name="v2_cent-10-30-noboxes" descr=""/>
          <p:cNvPicPr/>
          <p:nvPr/>
        </p:nvPicPr>
        <p:blipFill>
          <a:blip r:embed="rId2"/>
          <a:srcRect l="0" t="6451" r="0" b="0"/>
          <a:stretch/>
        </p:blipFill>
        <p:spPr>
          <a:xfrm>
            <a:off x="304920" y="2590920"/>
            <a:ext cx="3352680" cy="1958760"/>
          </a:xfrm>
          <a:prstGeom prst="rect">
            <a:avLst/>
          </a:prstGeom>
          <a:ln w="0">
            <a:noFill/>
          </a:ln>
        </p:spPr>
      </p:pic>
      <p:pic>
        <p:nvPicPr>
          <p:cNvPr id="282" name="v2_cent-30-50-noboxes" descr=""/>
          <p:cNvPicPr/>
          <p:nvPr/>
        </p:nvPicPr>
        <p:blipFill>
          <a:blip r:embed="rId3"/>
          <a:srcRect l="0" t="6451" r="0" b="0"/>
          <a:stretch/>
        </p:blipFill>
        <p:spPr>
          <a:xfrm>
            <a:off x="304920" y="4267080"/>
            <a:ext cx="333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3" name="v2_cent-0-50-noboxes" descr=""/>
          <p:cNvPicPr/>
          <p:nvPr/>
        </p:nvPicPr>
        <p:blipFill>
          <a:blip r:embed="rId4"/>
          <a:srcRect l="0" t="7528" r="0" b="0"/>
          <a:stretch/>
        </p:blipFill>
        <p:spPr>
          <a:xfrm>
            <a:off x="3429000" y="838080"/>
            <a:ext cx="5462640" cy="3152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962520" y="4191120"/>
            <a:ext cx="4800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inite 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up to 12 GeV/c in mid-peripheral 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crease from saturation level for more central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352B-0C91-46B3-B7EC-4BAB06DA45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066680"/>
            <a:ext cx="64771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t fragmentation observed, agreement with pQ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suppression of inclusive y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ion of back-to-back hadron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imuthal anisotropy at 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arton energy loss and surface emissio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What would large energy loss imp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tonic or hadronic energy lo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rm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934320" y="2286000"/>
            <a:ext cx="1676160" cy="3733560"/>
            <a:chOff x="6934320" y="2286000"/>
            <a:chExt cx="1676160" cy="3733560"/>
          </a:xfrm>
        </p:grpSpPr>
        <p:sp>
          <p:nvSpPr>
            <p:cNvPr id="288" name=""/>
            <p:cNvSpPr/>
            <p:nvPr/>
          </p:nvSpPr>
          <p:spPr>
            <a:xfrm>
              <a:off x="6934320" y="3122280"/>
              <a:ext cx="1676160" cy="28972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31240" y="3540600"/>
              <a:ext cx="1282320" cy="2206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984800" y="2812680"/>
              <a:ext cx="109800" cy="56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8094600" y="2286000"/>
              <a:ext cx="5724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984440" y="2286000"/>
              <a:ext cx="5508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8152200" y="2410920"/>
              <a:ext cx="165960" cy="3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84800" y="346104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05440" y="3988080"/>
              <a:ext cx="344880" cy="597960"/>
            </a:xfrm>
            <a:custGeom>
              <a:avLst/>
              <a:gdLst/>
              <a:ahLst/>
              <a:rect l="l" t="t" r="r" b="b"/>
              <a:pathLst>
                <a:path w="296" h="456">
                  <a:moveTo>
                    <a:pt x="240" y="0"/>
                  </a:moveTo>
                  <a:cubicBezTo>
                    <a:pt x="164" y="48"/>
                    <a:pt x="88" y="96"/>
                    <a:pt x="96" y="144"/>
                  </a:cubicBezTo>
                  <a:cubicBezTo>
                    <a:pt x="104" y="192"/>
                    <a:pt x="296" y="240"/>
                    <a:pt x="288" y="288"/>
                  </a:cubicBezTo>
                  <a:cubicBezTo>
                    <a:pt x="280" y="336"/>
                    <a:pt x="96" y="408"/>
                    <a:pt x="48" y="432"/>
                  </a:cubicBezTo>
                  <a:cubicBezTo>
                    <a:pt x="0" y="456"/>
                    <a:pt x="0" y="444"/>
                    <a:pt x="0" y="43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30840" y="4423680"/>
              <a:ext cx="316440" cy="45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C0C8-5759-409B-887C-6E9F1C07C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ets in heavy ion coll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paljet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7276" t="23272" r="12339" b="11632"/>
          <a:stretch/>
        </p:blipFill>
        <p:spPr>
          <a:xfrm>
            <a:off x="3124080" y="190512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6753"/>
          <a:stretch/>
        </p:blipFill>
        <p:spPr>
          <a:xfrm>
            <a:off x="6095880" y="1905120"/>
            <a:ext cx="2925720" cy="292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990720"/>
            <a:ext cx="198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+e-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qqbar (OPAL@L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990720"/>
            <a:ext cx="2057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p+p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jet+jet (STAR@RH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914400"/>
            <a:ext cx="198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u+Au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??? (STAR@RH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62120" y="5029200"/>
            <a:ext cx="7635600" cy="825480"/>
            <a:chOff x="762120" y="5029200"/>
            <a:chExt cx="7635600" cy="825480"/>
          </a:xfrm>
        </p:grpSpPr>
        <p:sp>
          <p:nvSpPr>
            <p:cNvPr id="53" name=""/>
            <p:cNvSpPr/>
            <p:nvPr/>
          </p:nvSpPr>
          <p:spPr>
            <a:xfrm>
              <a:off x="762120" y="5181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What Can We See in Au+A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00600" y="5029200"/>
              <a:ext cx="359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ding partic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zimuthal cor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EB86-182C-4BF4-9920-CF9BEBC527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ding Particle Sup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8600" y="4648320"/>
                <a:ext cx="41083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dη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N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d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297160" y="1219320"/>
            <a:ext cx="120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l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143000"/>
            <a:ext cx="5639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Jets modified in heavy ion colli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Leading particle suppression already observed in Au+Au at 130 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uclear Modification F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791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aub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52480" y="5638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2895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Partonic Energy loss in high density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120" y="1066680"/>
            <a:ext cx="2641320" cy="3049920"/>
            <a:chOff x="33120" y="1066680"/>
            <a:chExt cx="2641320" cy="3049920"/>
          </a:xfrm>
        </p:grpSpPr>
        <p:sp>
          <p:nvSpPr>
            <p:cNvPr id="64" name=""/>
            <p:cNvSpPr/>
            <p:nvPr/>
          </p:nvSpPr>
          <p:spPr>
            <a:xfrm>
              <a:off x="33120" y="297180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1981080"/>
              <a:ext cx="1295640" cy="38124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1218600" y="2514600"/>
              <a:ext cx="1455480" cy="38088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2880" y="2057400"/>
              <a:ext cx="3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1280" y="25542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672560" y="1633320"/>
              <a:ext cx="266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758960" y="1452240"/>
              <a:ext cx="1587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819440" y="1795320"/>
              <a:ext cx="139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712880" y="1590840"/>
              <a:ext cx="730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752480" y="1066680"/>
              <a:ext cx="606600" cy="87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041480" y="2973240"/>
              <a:ext cx="8568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988920" y="2952720"/>
              <a:ext cx="1382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838080" y="2919240"/>
              <a:ext cx="3225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174320" y="2959200"/>
              <a:ext cx="1260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04920" y="2948040"/>
              <a:ext cx="7632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14400" y="1523880"/>
              <a:ext cx="10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3000" y="3657600"/>
              <a:ext cx="129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leading part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5040" y="13716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1600" y="2362320"/>
              <a:ext cx="138240" cy="15084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11"/>
                  </a:moveTo>
                  <a:cubicBezTo>
                    <a:pt x="38" y="5"/>
                    <a:pt x="77" y="0"/>
                    <a:pt x="80" y="11"/>
                  </a:cubicBezTo>
                  <a:cubicBezTo>
                    <a:pt x="83" y="22"/>
                    <a:pt x="12" y="64"/>
                    <a:pt x="16" y="75"/>
                  </a:cubicBezTo>
                  <a:cubicBezTo>
                    <a:pt x="20" y="86"/>
                    <a:pt x="99" y="66"/>
                    <a:pt x="104" y="75"/>
                  </a:cubicBezTo>
                  <a:cubicBezTo>
                    <a:pt x="109" y="84"/>
                    <a:pt x="49" y="122"/>
                    <a:pt x="48" y="131"/>
                  </a:cubicBezTo>
                  <a:cubicBezTo>
                    <a:pt x="47" y="140"/>
                    <a:pt x="88" y="132"/>
                    <a:pt x="96" y="1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93520" y="3048120"/>
              <a:ext cx="261720" cy="1044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 flipV="1">
            <a:off x="2209680" y="2895120"/>
            <a:ext cx="53352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657600"/>
            <a:ext cx="99072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638320" y="3099960"/>
            <a:ext cx="3505680" cy="3097800"/>
            <a:chOff x="5638320" y="3099960"/>
            <a:chExt cx="3505680" cy="3097800"/>
          </a:xfrm>
        </p:grpSpPr>
        <p:grpSp>
          <p:nvGrpSpPr>
            <p:cNvPr id="87" name=""/>
            <p:cNvGrpSpPr/>
            <p:nvPr/>
          </p:nvGrpSpPr>
          <p:grpSpPr>
            <a:xfrm>
              <a:off x="6248520" y="4108320"/>
              <a:ext cx="1676160" cy="788760"/>
              <a:chOff x="6248520" y="4108320"/>
              <a:chExt cx="1676160" cy="788760"/>
            </a:xfrm>
          </p:grpSpPr>
          <p:sp>
            <p:nvSpPr>
              <p:cNvPr id="88" name=""/>
              <p:cNvSpPr/>
              <p:nvPr/>
            </p:nvSpPr>
            <p:spPr>
              <a:xfrm>
                <a:off x="6309720" y="4115880"/>
                <a:ext cx="1553400" cy="76536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795080" y="4108320"/>
                <a:ext cx="129600" cy="78120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8520" y="4108320"/>
                <a:ext cx="129600" cy="788760"/>
              </a:xfrm>
              <a:prstGeom prst="ellips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788080" y="502272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341480" y="3666600"/>
              <a:ext cx="2664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427880" y="3485520"/>
              <a:ext cx="1587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88360" y="3828600"/>
              <a:ext cx="1396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381800" y="3624120"/>
              <a:ext cx="730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421400" y="3099960"/>
              <a:ext cx="606600" cy="8730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2920" y="5043240"/>
              <a:ext cx="177840" cy="719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694560" y="5024160"/>
              <a:ext cx="8568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642000" y="5003640"/>
              <a:ext cx="1382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491160" y="4970160"/>
              <a:ext cx="3225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827400" y="5010120"/>
              <a:ext cx="1260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0" y="4998960"/>
              <a:ext cx="7632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05720" y="3422520"/>
              <a:ext cx="10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adr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35840" y="3270240"/>
              <a:ext cx="1208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lea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particle sup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5556240"/>
              <a:ext cx="1292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leading particle suppres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3720" y="34225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38320" y="4481280"/>
              <a:ext cx="384120" cy="180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8152920" y="4487760"/>
              <a:ext cx="384120" cy="144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380360" y="3404880"/>
              <a:ext cx="419040" cy="62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546600" y="5099040"/>
              <a:ext cx="261720" cy="10443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7132680" y="4174200"/>
              <a:ext cx="291960" cy="268200"/>
              <a:chOff x="7132680" y="4174200"/>
              <a:chExt cx="291960" cy="268200"/>
            </a:xfrm>
          </p:grpSpPr>
          <p:sp>
            <p:nvSpPr>
              <p:cNvPr id="112" name=""/>
              <p:cNvSpPr/>
              <p:nvPr/>
            </p:nvSpPr>
            <p:spPr>
              <a:xfrm flipV="1">
                <a:off x="7386840" y="4199760"/>
                <a:ext cx="37800" cy="3060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976800">
                <a:off x="7158960" y="4199040"/>
                <a:ext cx="209520" cy="21816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40"/>
                    </a:moveTo>
                    <a:cubicBezTo>
                      <a:pt x="39" y="231"/>
                      <a:pt x="36" y="217"/>
                      <a:pt x="49" y="225"/>
                    </a:cubicBezTo>
                    <a:cubicBezTo>
                      <a:pt x="58" y="230"/>
                      <a:pt x="43" y="227"/>
                      <a:pt x="53" y="230"/>
                    </a:cubicBezTo>
                    <a:cubicBezTo>
                      <a:pt x="58" y="232"/>
                      <a:pt x="82" y="259"/>
                      <a:pt x="82" y="259"/>
                    </a:cubicBezTo>
                    <a:cubicBezTo>
                      <a:pt x="92" y="256"/>
                      <a:pt x="108" y="259"/>
                      <a:pt x="111" y="249"/>
                    </a:cubicBezTo>
                    <a:cubicBezTo>
                      <a:pt x="114" y="239"/>
                      <a:pt x="121" y="220"/>
                      <a:pt x="121" y="220"/>
                    </a:cubicBezTo>
                    <a:cubicBezTo>
                      <a:pt x="119" y="204"/>
                      <a:pt x="121" y="187"/>
                      <a:pt x="116" y="172"/>
                    </a:cubicBezTo>
                    <a:cubicBezTo>
                      <a:pt x="111" y="156"/>
                      <a:pt x="73" y="148"/>
                      <a:pt x="73" y="148"/>
                    </a:cubicBezTo>
                    <a:cubicBezTo>
                      <a:pt x="76" y="172"/>
                      <a:pt x="70" y="189"/>
                      <a:pt x="92" y="201"/>
                    </a:cubicBezTo>
                    <a:cubicBezTo>
                      <a:pt x="101" y="206"/>
                      <a:pt x="121" y="211"/>
                      <a:pt x="121" y="211"/>
                    </a:cubicBezTo>
                    <a:cubicBezTo>
                      <a:pt x="170" y="205"/>
                      <a:pt x="172" y="207"/>
                      <a:pt x="188" y="163"/>
                    </a:cubicBezTo>
                    <a:cubicBezTo>
                      <a:pt x="183" y="126"/>
                      <a:pt x="180" y="113"/>
                      <a:pt x="145" y="100"/>
                    </a:cubicBezTo>
                    <a:cubicBezTo>
                      <a:pt x="119" y="139"/>
                      <a:pt x="160" y="163"/>
                      <a:pt x="193" y="172"/>
                    </a:cubicBezTo>
                    <a:cubicBezTo>
                      <a:pt x="240" y="166"/>
                      <a:pt x="235" y="148"/>
                      <a:pt x="246" y="105"/>
                    </a:cubicBezTo>
                    <a:cubicBezTo>
                      <a:pt x="241" y="74"/>
                      <a:pt x="242" y="63"/>
                      <a:pt x="212" y="52"/>
                    </a:cubicBezTo>
                    <a:cubicBezTo>
                      <a:pt x="182" y="97"/>
                      <a:pt x="241" y="112"/>
                      <a:pt x="270" y="129"/>
                    </a:cubicBezTo>
                    <a:cubicBezTo>
                      <a:pt x="292" y="123"/>
                      <a:pt x="301" y="122"/>
                      <a:pt x="308" y="100"/>
                    </a:cubicBezTo>
                    <a:cubicBezTo>
                      <a:pt x="304" y="50"/>
                      <a:pt x="317" y="28"/>
                      <a:pt x="274" y="14"/>
                    </a:cubicBezTo>
                    <a:cubicBezTo>
                      <a:pt x="264" y="30"/>
                      <a:pt x="264" y="69"/>
                      <a:pt x="284" y="81"/>
                    </a:cubicBezTo>
                    <a:cubicBezTo>
                      <a:pt x="293" y="86"/>
                      <a:pt x="313" y="91"/>
                      <a:pt x="313" y="91"/>
                    </a:cubicBezTo>
                    <a:cubicBezTo>
                      <a:pt x="361" y="74"/>
                      <a:pt x="287" y="0"/>
                      <a:pt x="361" y="0"/>
                    </a:cubicBezTo>
                  </a:path>
                </a:pathLst>
              </a:custGeom>
              <a:noFill/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8440" y="4615560"/>
              <a:ext cx="245880" cy="481320"/>
              <a:chOff x="6958440" y="4615560"/>
              <a:chExt cx="245880" cy="48132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7083360" y="5023440"/>
                <a:ext cx="3240" cy="7344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 rot="1015800">
                <a:off x="7011360" y="4627440"/>
                <a:ext cx="139680" cy="38556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40"/>
                    </a:moveTo>
                    <a:cubicBezTo>
                      <a:pt x="39" y="231"/>
                      <a:pt x="36" y="217"/>
                      <a:pt x="49" y="225"/>
                    </a:cubicBezTo>
                    <a:cubicBezTo>
                      <a:pt x="58" y="230"/>
                      <a:pt x="43" y="227"/>
                      <a:pt x="53" y="230"/>
                    </a:cubicBezTo>
                    <a:cubicBezTo>
                      <a:pt x="58" y="232"/>
                      <a:pt x="82" y="259"/>
                      <a:pt x="82" y="259"/>
                    </a:cubicBezTo>
                    <a:cubicBezTo>
                      <a:pt x="92" y="256"/>
                      <a:pt x="108" y="259"/>
                      <a:pt x="111" y="249"/>
                    </a:cubicBezTo>
                    <a:cubicBezTo>
                      <a:pt x="114" y="239"/>
                      <a:pt x="121" y="220"/>
                      <a:pt x="121" y="220"/>
                    </a:cubicBezTo>
                    <a:cubicBezTo>
                      <a:pt x="119" y="204"/>
                      <a:pt x="121" y="187"/>
                      <a:pt x="116" y="172"/>
                    </a:cubicBezTo>
                    <a:cubicBezTo>
                      <a:pt x="111" y="156"/>
                      <a:pt x="73" y="148"/>
                      <a:pt x="73" y="148"/>
                    </a:cubicBezTo>
                    <a:cubicBezTo>
                      <a:pt x="76" y="172"/>
                      <a:pt x="70" y="189"/>
                      <a:pt x="92" y="201"/>
                    </a:cubicBezTo>
                    <a:cubicBezTo>
                      <a:pt x="101" y="206"/>
                      <a:pt x="121" y="211"/>
                      <a:pt x="121" y="211"/>
                    </a:cubicBezTo>
                    <a:cubicBezTo>
                      <a:pt x="170" y="205"/>
                      <a:pt x="172" y="207"/>
                      <a:pt x="188" y="163"/>
                    </a:cubicBezTo>
                    <a:cubicBezTo>
                      <a:pt x="183" y="126"/>
                      <a:pt x="180" y="113"/>
                      <a:pt x="145" y="100"/>
                    </a:cubicBezTo>
                    <a:cubicBezTo>
                      <a:pt x="119" y="139"/>
                      <a:pt x="160" y="163"/>
                      <a:pt x="193" y="172"/>
                    </a:cubicBezTo>
                    <a:cubicBezTo>
                      <a:pt x="240" y="166"/>
                      <a:pt x="235" y="148"/>
                      <a:pt x="246" y="105"/>
                    </a:cubicBezTo>
                    <a:cubicBezTo>
                      <a:pt x="241" y="74"/>
                      <a:pt x="242" y="63"/>
                      <a:pt x="212" y="52"/>
                    </a:cubicBezTo>
                    <a:cubicBezTo>
                      <a:pt x="182" y="97"/>
                      <a:pt x="241" y="112"/>
                      <a:pt x="270" y="129"/>
                    </a:cubicBezTo>
                    <a:cubicBezTo>
                      <a:pt x="292" y="123"/>
                      <a:pt x="301" y="122"/>
                      <a:pt x="308" y="100"/>
                    </a:cubicBezTo>
                    <a:cubicBezTo>
                      <a:pt x="304" y="50"/>
                      <a:pt x="317" y="28"/>
                      <a:pt x="274" y="14"/>
                    </a:cubicBezTo>
                    <a:cubicBezTo>
                      <a:pt x="264" y="30"/>
                      <a:pt x="264" y="69"/>
                      <a:pt x="284" y="81"/>
                    </a:cubicBezTo>
                    <a:cubicBezTo>
                      <a:pt x="293" y="86"/>
                      <a:pt x="313" y="91"/>
                      <a:pt x="313" y="91"/>
                    </a:cubicBezTo>
                    <a:cubicBezTo>
                      <a:pt x="361" y="74"/>
                      <a:pt x="287" y="0"/>
                      <a:pt x="361" y="0"/>
                    </a:cubicBezTo>
                  </a:path>
                </a:pathLst>
              </a:custGeom>
              <a:noFill/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693840" y="4490280"/>
              <a:ext cx="421560" cy="411480"/>
              <a:chOff x="6693840" y="4490280"/>
              <a:chExt cx="421560" cy="41148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6693840" y="4772880"/>
                <a:ext cx="59040" cy="1800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rot="18135000">
                <a:off x="6755400" y="4586760"/>
                <a:ext cx="348840" cy="21780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40"/>
                    </a:moveTo>
                    <a:cubicBezTo>
                      <a:pt x="39" y="231"/>
                      <a:pt x="36" y="217"/>
                      <a:pt x="49" y="225"/>
                    </a:cubicBezTo>
                    <a:cubicBezTo>
                      <a:pt x="58" y="230"/>
                      <a:pt x="43" y="227"/>
                      <a:pt x="53" y="230"/>
                    </a:cubicBezTo>
                    <a:cubicBezTo>
                      <a:pt x="58" y="232"/>
                      <a:pt x="82" y="259"/>
                      <a:pt x="82" y="259"/>
                    </a:cubicBezTo>
                    <a:cubicBezTo>
                      <a:pt x="92" y="256"/>
                      <a:pt x="108" y="259"/>
                      <a:pt x="111" y="249"/>
                    </a:cubicBezTo>
                    <a:cubicBezTo>
                      <a:pt x="114" y="239"/>
                      <a:pt x="121" y="220"/>
                      <a:pt x="121" y="220"/>
                    </a:cubicBezTo>
                    <a:cubicBezTo>
                      <a:pt x="119" y="204"/>
                      <a:pt x="121" y="187"/>
                      <a:pt x="116" y="172"/>
                    </a:cubicBezTo>
                    <a:cubicBezTo>
                      <a:pt x="111" y="156"/>
                      <a:pt x="73" y="148"/>
                      <a:pt x="73" y="148"/>
                    </a:cubicBezTo>
                    <a:cubicBezTo>
                      <a:pt x="76" y="172"/>
                      <a:pt x="70" y="189"/>
                      <a:pt x="92" y="201"/>
                    </a:cubicBezTo>
                    <a:cubicBezTo>
                      <a:pt x="101" y="206"/>
                      <a:pt x="121" y="211"/>
                      <a:pt x="121" y="211"/>
                    </a:cubicBezTo>
                    <a:cubicBezTo>
                      <a:pt x="170" y="205"/>
                      <a:pt x="172" y="207"/>
                      <a:pt x="188" y="163"/>
                    </a:cubicBezTo>
                    <a:cubicBezTo>
                      <a:pt x="183" y="126"/>
                      <a:pt x="180" y="113"/>
                      <a:pt x="145" y="100"/>
                    </a:cubicBezTo>
                    <a:cubicBezTo>
                      <a:pt x="119" y="139"/>
                      <a:pt x="160" y="163"/>
                      <a:pt x="193" y="172"/>
                    </a:cubicBezTo>
                    <a:cubicBezTo>
                      <a:pt x="240" y="166"/>
                      <a:pt x="235" y="148"/>
                      <a:pt x="246" y="105"/>
                    </a:cubicBezTo>
                    <a:cubicBezTo>
                      <a:pt x="241" y="74"/>
                      <a:pt x="242" y="63"/>
                      <a:pt x="212" y="52"/>
                    </a:cubicBezTo>
                    <a:cubicBezTo>
                      <a:pt x="182" y="97"/>
                      <a:pt x="241" y="112"/>
                      <a:pt x="270" y="129"/>
                    </a:cubicBezTo>
                    <a:cubicBezTo>
                      <a:pt x="292" y="123"/>
                      <a:pt x="301" y="122"/>
                      <a:pt x="308" y="100"/>
                    </a:cubicBezTo>
                    <a:cubicBezTo>
                      <a:pt x="304" y="50"/>
                      <a:pt x="317" y="28"/>
                      <a:pt x="274" y="14"/>
                    </a:cubicBezTo>
                    <a:cubicBezTo>
                      <a:pt x="264" y="30"/>
                      <a:pt x="264" y="69"/>
                      <a:pt x="284" y="81"/>
                    </a:cubicBezTo>
                    <a:cubicBezTo>
                      <a:pt x="293" y="86"/>
                      <a:pt x="313" y="91"/>
                      <a:pt x="313" y="91"/>
                    </a:cubicBezTo>
                    <a:cubicBezTo>
                      <a:pt x="361" y="74"/>
                      <a:pt x="287" y="0"/>
                      <a:pt x="361" y="0"/>
                    </a:cubicBezTo>
                  </a:path>
                </a:pathLst>
              </a:custGeom>
              <a:noFill/>
              <a:ln w="93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947280" y="4055760"/>
              <a:ext cx="279720" cy="320040"/>
              <a:chOff x="6947280" y="4055760"/>
              <a:chExt cx="279720" cy="32004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7107480" y="4055760"/>
                <a:ext cx="11880" cy="435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 rot="14001600">
                <a:off x="6982200" y="4137120"/>
                <a:ext cx="209520" cy="192960"/>
              </a:xfrm>
              <a:custGeom>
                <a:avLst/>
                <a:gdLst/>
                <a:ahLst/>
                <a:rect l="l" t="t" r="r" b="b"/>
                <a:pathLst>
                  <a:path w="361" h="259">
                    <a:moveTo>
                      <a:pt x="0" y="240"/>
                    </a:moveTo>
                    <a:cubicBezTo>
                      <a:pt x="39" y="231"/>
                      <a:pt x="36" y="217"/>
                      <a:pt x="49" y="225"/>
                    </a:cubicBezTo>
                    <a:cubicBezTo>
                      <a:pt x="58" y="230"/>
                      <a:pt x="43" y="227"/>
                      <a:pt x="53" y="230"/>
                    </a:cubicBezTo>
                    <a:cubicBezTo>
                      <a:pt x="58" y="232"/>
                      <a:pt x="82" y="259"/>
                      <a:pt x="82" y="259"/>
                    </a:cubicBezTo>
                    <a:cubicBezTo>
                      <a:pt x="92" y="256"/>
                      <a:pt x="108" y="259"/>
                      <a:pt x="111" y="249"/>
                    </a:cubicBezTo>
                    <a:cubicBezTo>
                      <a:pt x="114" y="239"/>
                      <a:pt x="121" y="220"/>
                      <a:pt x="121" y="220"/>
                    </a:cubicBezTo>
                    <a:cubicBezTo>
                      <a:pt x="119" y="204"/>
                      <a:pt x="121" y="187"/>
                      <a:pt x="116" y="172"/>
                    </a:cubicBezTo>
                    <a:cubicBezTo>
                      <a:pt x="111" y="156"/>
                      <a:pt x="73" y="148"/>
                      <a:pt x="73" y="148"/>
                    </a:cubicBezTo>
                    <a:cubicBezTo>
                      <a:pt x="76" y="172"/>
                      <a:pt x="70" y="189"/>
                      <a:pt x="92" y="201"/>
                    </a:cubicBezTo>
                    <a:cubicBezTo>
                      <a:pt x="101" y="206"/>
                      <a:pt x="121" y="211"/>
                      <a:pt x="121" y="211"/>
                    </a:cubicBezTo>
                    <a:cubicBezTo>
                      <a:pt x="170" y="205"/>
                      <a:pt x="172" y="207"/>
                      <a:pt x="188" y="163"/>
                    </a:cubicBezTo>
                    <a:cubicBezTo>
                      <a:pt x="183" y="126"/>
                      <a:pt x="180" y="113"/>
                      <a:pt x="145" y="100"/>
                    </a:cubicBezTo>
                    <a:cubicBezTo>
                      <a:pt x="119" y="139"/>
                      <a:pt x="160" y="163"/>
                      <a:pt x="193" y="172"/>
                    </a:cubicBezTo>
                    <a:cubicBezTo>
                      <a:pt x="240" y="166"/>
                      <a:pt x="235" y="148"/>
                      <a:pt x="246" y="105"/>
                    </a:cubicBezTo>
                    <a:cubicBezTo>
                      <a:pt x="241" y="74"/>
                      <a:pt x="242" y="63"/>
                      <a:pt x="212" y="52"/>
                    </a:cubicBezTo>
                    <a:cubicBezTo>
                      <a:pt x="182" y="97"/>
                      <a:pt x="241" y="112"/>
                      <a:pt x="270" y="129"/>
                    </a:cubicBezTo>
                    <a:cubicBezTo>
                      <a:pt x="292" y="123"/>
                      <a:pt x="301" y="122"/>
                      <a:pt x="308" y="100"/>
                    </a:cubicBezTo>
                    <a:cubicBezTo>
                      <a:pt x="304" y="50"/>
                      <a:pt x="317" y="28"/>
                      <a:pt x="274" y="14"/>
                    </a:cubicBezTo>
                    <a:cubicBezTo>
                      <a:pt x="264" y="30"/>
                      <a:pt x="264" y="69"/>
                      <a:pt x="284" y="81"/>
                    </a:cubicBezTo>
                    <a:cubicBezTo>
                      <a:pt x="293" y="86"/>
                      <a:pt x="313" y="91"/>
                      <a:pt x="313" y="91"/>
                    </a:cubicBezTo>
                    <a:cubicBezTo>
                      <a:pt x="361" y="74"/>
                      <a:pt x="287" y="0"/>
                      <a:pt x="361" y="0"/>
                    </a:cubicBez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019920" y="4032000"/>
              <a:ext cx="1295280" cy="38124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6858000" y="4565520"/>
              <a:ext cx="1455840" cy="380880"/>
            </a:xfrm>
            <a:custGeom>
              <a:avLst/>
              <a:gdLst/>
              <a:ahLst/>
              <a:rect l="l" t="t" r="r" b="b"/>
              <a:pathLst>
                <a:path w="856" h="328">
                  <a:moveTo>
                    <a:pt x="0" y="328"/>
                  </a:moveTo>
                  <a:lnTo>
                    <a:pt x="680" y="328"/>
                  </a:lnTo>
                  <a:lnTo>
                    <a:pt x="8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51560" y="4108320"/>
              <a:ext cx="3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09960" y="4605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0280" y="4413240"/>
              <a:ext cx="138240" cy="1504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11"/>
                  </a:moveTo>
                  <a:cubicBezTo>
                    <a:pt x="38" y="5"/>
                    <a:pt x="77" y="0"/>
                    <a:pt x="80" y="11"/>
                  </a:cubicBezTo>
                  <a:cubicBezTo>
                    <a:pt x="83" y="22"/>
                    <a:pt x="12" y="64"/>
                    <a:pt x="16" y="75"/>
                  </a:cubicBezTo>
                  <a:cubicBezTo>
                    <a:pt x="20" y="86"/>
                    <a:pt x="99" y="66"/>
                    <a:pt x="104" y="75"/>
                  </a:cubicBezTo>
                  <a:cubicBezTo>
                    <a:pt x="109" y="84"/>
                    <a:pt x="49" y="122"/>
                    <a:pt x="48" y="131"/>
                  </a:cubicBezTo>
                  <a:cubicBezTo>
                    <a:pt x="47" y="140"/>
                    <a:pt x="88" y="132"/>
                    <a:pt x="96" y="1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76D6-E80A-4E48-B9CB-E091683C09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9027" r="50027" b="2953"/>
          <a:stretch/>
        </p:blipFill>
        <p:spPr>
          <a:xfrm>
            <a:off x="3048120" y="914400"/>
            <a:ext cx="301932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adrons: Au+Au at RH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172200" y="838080"/>
            <a:ext cx="2971080" cy="4114800"/>
            <a:chOff x="6172200" y="838080"/>
            <a:chExt cx="2971080" cy="4114800"/>
          </a:xfrm>
        </p:grpSpPr>
        <p:pic>
          <p:nvPicPr>
            <p:cNvPr id="131" name="Spectra_200GeV" descr=""/>
            <p:cNvPicPr/>
            <p:nvPr/>
          </p:nvPicPr>
          <p:blipFill>
            <a:blip r:embed="rId2"/>
            <a:srcRect l="16585" t="7770" r="8039" b="2071"/>
            <a:stretch/>
          </p:blipFill>
          <p:spPr>
            <a:xfrm>
              <a:off x="6172200" y="838080"/>
              <a:ext cx="2736720" cy="411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"/>
            <p:cNvGrpSpPr/>
            <p:nvPr/>
          </p:nvGrpSpPr>
          <p:grpSpPr>
            <a:xfrm>
              <a:off x="7161840" y="2214000"/>
              <a:ext cx="1981440" cy="529200"/>
              <a:chOff x="7161840" y="2214000"/>
              <a:chExt cx="1981440" cy="52920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8560" y="2259360"/>
                <a:ext cx="167472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Preliminary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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s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Trebuchet MS"/>
                  </a:rPr>
                  <a:t>NN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= 200 Ge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" name="starimage" descr=""/>
              <p:cNvPicPr/>
              <p:nvPr/>
            </p:nvPicPr>
            <p:blipFill>
              <a:blip r:embed="rId3"/>
              <a:srcRect l="6691" t="17003" r="13330" b="15049"/>
              <a:stretch/>
            </p:blipFill>
            <p:spPr>
              <a:xfrm>
                <a:off x="7161840" y="2214000"/>
                <a:ext cx="355680" cy="31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"/>
            <p:cNvSpPr/>
            <p:nvPr/>
          </p:nvSpPr>
          <p:spPr>
            <a:xfrm>
              <a:off x="6184800" y="974160"/>
              <a:ext cx="2645640" cy="3575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TalkFigure2_7_12" descr=""/>
          <p:cNvPicPr/>
          <p:nvPr/>
        </p:nvPicPr>
        <p:blipFill>
          <a:blip r:embed="rId4"/>
          <a:srcRect l="0" t="9176" r="0" b="0"/>
          <a:stretch/>
        </p:blipFill>
        <p:spPr>
          <a:xfrm>
            <a:off x="0" y="9907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8360" y="5486400"/>
            <a:ext cx="57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quality data from th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2B88-92E3-41B3-9463-23A9C9495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610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dron suppression: Au+Au at 200 Ge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CentralPeripheralRatio_Compare_new" descr=""/>
          <p:cNvPicPr/>
          <p:nvPr/>
        </p:nvPicPr>
        <p:blipFill>
          <a:blip r:embed="rId1"/>
          <a:srcRect l="0" t="0" r="1510" b="1192"/>
          <a:stretch/>
        </p:blipFill>
        <p:spPr>
          <a:xfrm>
            <a:off x="4419720" y="1698480"/>
            <a:ext cx="4521240" cy="4038840"/>
          </a:xfrm>
          <a:prstGeom prst="rect">
            <a:avLst/>
          </a:prstGeom>
          <a:ln w="0">
            <a:noFill/>
          </a:ln>
        </p:spPr>
      </p:pic>
      <p:pic>
        <p:nvPicPr>
          <p:cNvPr id="140" name="starimage" descr=""/>
          <p:cNvPicPr/>
          <p:nvPr/>
        </p:nvPicPr>
        <p:blipFill>
          <a:blip r:embed="rId2"/>
          <a:srcRect l="6691" t="17003" r="13330" b="15049"/>
          <a:stretch/>
        </p:blipFill>
        <p:spPr>
          <a:xfrm>
            <a:off x="5270400" y="1797120"/>
            <a:ext cx="398520" cy="298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562720" y="1698480"/>
            <a:ext cx="2463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Preliminary 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s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Trebuchet MS"/>
              </a:rPr>
              <a:t>NN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= 200 G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rcRect l="0" t="5829" r="0" b="0"/>
          <a:stretch/>
        </p:blipFill>
        <p:spPr>
          <a:xfrm>
            <a:off x="0" y="1600200"/>
            <a:ext cx="457200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4880" y="304812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Times New Roman"/>
              </a:rPr>
              <a:t>PHENIX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715000"/>
            <a:ext cx="899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M’02 prelim. data: suppression of factor 4-5 persists to p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12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914400"/>
            <a:ext cx="28764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HENIX 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30000">
                <a:solidFill>
                  <a:srgbClr val="008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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eripheral and central over </a:t>
            </a:r>
            <a:r>
              <a:rPr b="0" i="1" lang="en-US" sz="1800" spc="-1" strike="noStrike">
                <a:solidFill>
                  <a:srgbClr val="008000"/>
                </a:solidFill>
                <a:latin typeface="Times New Roman"/>
              </a:rPr>
              <a:t>measured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 p+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914400"/>
            <a:ext cx="28764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STAR charged hadrons: central/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37C5-D5EF-4327-B8D2-ED1FA0B304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-particle correlations at high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71600" y="5410080"/>
                <a:ext cx="6362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igger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ficiency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η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,</m:t>
                    </m:r>
                    <m:r>
                      <m:t xml:space="preserve">Δ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95360" y="1219320"/>
            <a:ext cx="8153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Jet core</a:t>
            </a:r>
            <a:r>
              <a:rPr b="0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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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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 x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9933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look at near-side correlations (</a:t>
            </a:r>
            <a:r>
              <a:rPr b="0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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~0) of high p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hadron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plication: ellip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drons correlated with the reaction plane orientation also correlated with each other (~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ut elliptic flow has long range correlation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&gt;&gt;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lution: compare azimuthal correlation functions for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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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EE8D-F8F5-43BE-803E-4D802BA9D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ct evidence for j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828800" y="990720"/>
                <a:ext cx="6362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igger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ficiency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η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Δφ</m:t>
                    </m:r>
                    <m:r>
                      <m:t xml:space="preserve">,</m:t>
                    </m:r>
                    <m:r>
                      <m:t xml:space="preserve">Δ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4572000" y="2209680"/>
            <a:ext cx="4419720" cy="3048120"/>
            <a:chOff x="4572000" y="2209680"/>
            <a:chExt cx="4419720" cy="304812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0" t="0" r="8263" b="0"/>
            <a:stretch/>
          </p:blipFill>
          <p:spPr>
            <a:xfrm>
              <a:off x="4572000" y="2209680"/>
              <a:ext cx="4419720" cy="304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7806600" y="2303640"/>
              <a:ext cx="1159560" cy="642600"/>
              <a:chOff x="7806600" y="2303640"/>
              <a:chExt cx="1159560" cy="642600"/>
            </a:xfrm>
          </p:grpSpPr>
          <p:sp>
            <p:nvSpPr>
              <p:cNvPr id="155" name=""/>
              <p:cNvSpPr/>
              <p:nvPr/>
            </p:nvSpPr>
            <p:spPr>
              <a:xfrm>
                <a:off x="7929000" y="2303640"/>
                <a:ext cx="1037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lt; 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gt; 0.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06600" y="2612160"/>
                <a:ext cx="90720" cy="7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06600" y="2398680"/>
                <a:ext cx="90720" cy="8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353800" y="3792240"/>
              <a:ext cx="90720" cy="7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30960" y="3792240"/>
              <a:ext cx="90720" cy="8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62360" y="3820320"/>
              <a:ext cx="5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52280" y="2095560"/>
            <a:ext cx="4572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zimuthal correlation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igger particle 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 trig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&gt; 4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sociate tracks 2 &lt; 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&lt; 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tr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080" y="5562720"/>
            <a:ext cx="7826400" cy="459720"/>
          </a:xfrm>
          <a:prstGeom prst="rect">
            <a:avLst/>
          </a:prstGeom>
          <a:noFill/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ear-side correlation shows jet-like signal in central Au+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44480" y="31860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Times New Roman"/>
              </a:rPr>
              <a:t>Central 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962520"/>
            <a:ext cx="4114800" cy="1008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.B. Away-side jet contribution subtracted by construction, needs different metho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39BB-38B7-47BE-9522-67651DB4B2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10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4191120" cy="2666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61084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ression of back-to-back pa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52280" y="3581280"/>
            <a:ext cx="4191120" cy="2590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0840" y="3505320"/>
            <a:ext cx="20048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entral Au +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1200" y="838080"/>
            <a:ext cx="23281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Peripheral Au + 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0600" y="1346040"/>
            <a:ext cx="44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Near-side well-d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way-side suppression in central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11760" y="5715000"/>
            <a:ext cx="394488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way side jets are suppress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819520" y="1219320"/>
            <a:ext cx="175248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438280" y="1143000"/>
            <a:ext cx="2046240" cy="700200"/>
          </a:xfrm>
          <a:prstGeom prst="line">
            <a:avLst/>
          </a:prstGeom>
          <a:ln w="158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7920" y="1600200"/>
            <a:ext cx="2210040" cy="2819520"/>
          </a:xfrm>
          <a:prstGeom prst="line">
            <a:avLst/>
          </a:prstGeom>
          <a:ln w="158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38480" y="2209680"/>
            <a:ext cx="609840" cy="2743200"/>
          </a:xfrm>
          <a:prstGeom prst="line">
            <a:avLst/>
          </a:prstGeom>
          <a:ln w="158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3832200"/>
            <a:ext cx="3614760" cy="9720"/>
          </a:xfrm>
          <a:prstGeom prst="line">
            <a:avLst/>
          </a:prstGeom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8160" y="342900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ea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8520" y="46483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Times New Roman"/>
              </a:rPr>
              <a:t>away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29600" y="38862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9"/>
                </a:lnTo>
                <a:cubicBezTo>
                  <a:pt x="10800" y="10029"/>
                  <a:pt x="16200" y="10929"/>
                  <a:pt x="21600" y="10929"/>
                </a:cubicBezTo>
                <a:cubicBezTo>
                  <a:pt x="16200" y="10929"/>
                  <a:pt x="10800" y="11829"/>
                  <a:pt x="10800" y="1272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438280"/>
            <a:ext cx="1143000" cy="1905120"/>
          </a:xfrm>
          <a:custGeom>
            <a:avLst/>
            <a:gdLst/>
            <a:ahLst/>
            <a:rect l="l" t="t" r="r" b="b"/>
            <a:pathLst>
              <a:path w="750" h="1554">
                <a:moveTo>
                  <a:pt x="0" y="39"/>
                </a:moveTo>
                <a:cubicBezTo>
                  <a:pt x="116" y="75"/>
                  <a:pt x="648" y="0"/>
                  <a:pt x="699" y="252"/>
                </a:cubicBezTo>
                <a:cubicBezTo>
                  <a:pt x="750" y="504"/>
                  <a:pt x="386" y="1283"/>
                  <a:pt x="304" y="1554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24000" y="274320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STAR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95680" y="914400"/>
                <a:ext cx="4648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f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 flipH="1">
            <a:off x="3962160" y="2209680"/>
            <a:ext cx="685800" cy="152640"/>
          </a:xfrm>
          <a:prstGeom prst="line">
            <a:avLst/>
          </a:prstGeom>
          <a:ln w="158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437920" y="1600200"/>
            <a:ext cx="2210040" cy="380880"/>
          </a:xfrm>
          <a:prstGeom prst="line">
            <a:avLst/>
          </a:prstGeom>
          <a:ln w="158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81800" y="297180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STAR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160" y="388620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STAR Prelimi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0F47-1318-478F-9A14-EADFB98D84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610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zimuthal anisotropy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5800" y="4648320"/>
                <a:ext cx="2284560" cy="13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429000" y="4876920"/>
                <a:ext cx="49831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ϕ</m:t>
                    </m:r>
                    <m:r>
                      <m:t xml:space="preserve">⟩</m:t>
                    </m:r>
                    <m:r>
                      <m:t xml:space="preserve">,</m:t>
                    </m:r>
                    <m:m>
                      <m:mr>
                        <m:e/>
                      </m:mr>
                      <m:mr>
                        <m:e>
                          <m:r>
                            <m:t xml:space="preserve">ϕ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an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914400" y="9144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Coordinate sp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initial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914400"/>
            <a:ext cx="31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Momentum spa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final asy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3200400"/>
            <a:ext cx="1981080" cy="469800"/>
          </a:xfrm>
          <a:prstGeom prst="rightArrow">
            <a:avLst>
              <a:gd name="adj1" fmla="val 50000"/>
              <a:gd name="adj2" fmla="val 105421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209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multiple collisions (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1905120"/>
            <a:ext cx="9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llGothic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BellGothic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46200">
            <a:off x="8304480" y="3200400"/>
            <a:ext cx="37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llGothic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Bell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6539400" y="2567880"/>
            <a:ext cx="1020600" cy="1657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8408600">
            <a:off x="7639560" y="2854800"/>
            <a:ext cx="380880" cy="115920"/>
          </a:xfrm>
          <a:custGeom>
            <a:avLst/>
            <a:gdLst>
              <a:gd name="textAreaLeft" fmla="*/ 59400 w 380880"/>
              <a:gd name="textAreaRight" fmla="*/ 333360 w 38088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2982200">
            <a:off x="6013080" y="2914560"/>
            <a:ext cx="333360" cy="131760"/>
          </a:xfrm>
          <a:custGeom>
            <a:avLst/>
            <a:gdLst>
              <a:gd name="textAreaLeft" fmla="*/ 51840 w 333360"/>
              <a:gd name="textAreaRight" fmla="*/ 291960 w 333360"/>
              <a:gd name="textAreaTop" fmla="*/ 32760 h 131760"/>
              <a:gd name="textAreaBottom" fmla="*/ 99000 h 13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3170400">
            <a:off x="7703280" y="3798000"/>
            <a:ext cx="379440" cy="117360"/>
          </a:xfrm>
          <a:custGeom>
            <a:avLst/>
            <a:gdLst>
              <a:gd name="textAreaLeft" fmla="*/ 59040 w 379440"/>
              <a:gd name="textAreaRight" fmla="*/ 332280 w 379440"/>
              <a:gd name="textAreaTop" fmla="*/ 29160 h 117360"/>
              <a:gd name="textAreaBottom" fmla="*/ 88200 h 117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4309800">
            <a:off x="7277040" y="3992040"/>
            <a:ext cx="379440" cy="115920"/>
          </a:xfrm>
          <a:custGeom>
            <a:avLst/>
            <a:gdLst>
              <a:gd name="textAreaLeft" fmla="*/ 59040 w 379440"/>
              <a:gd name="textAreaRight" fmla="*/ 332280 w 3794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7314600">
            <a:off x="6393960" y="4006800"/>
            <a:ext cx="379440" cy="115920"/>
          </a:xfrm>
          <a:custGeom>
            <a:avLst/>
            <a:gdLst>
              <a:gd name="textAreaLeft" fmla="*/ 59040 w 379440"/>
              <a:gd name="textAreaRight" fmla="*/ 332280 w 3794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697600">
            <a:off x="6360120" y="2691000"/>
            <a:ext cx="379440" cy="114120"/>
          </a:xfrm>
          <a:custGeom>
            <a:avLst/>
            <a:gdLst>
              <a:gd name="textAreaLeft" fmla="*/ 59040 w 379440"/>
              <a:gd name="textAreaRight" fmla="*/ 332280 w 37944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308000">
            <a:off x="6837120" y="2515680"/>
            <a:ext cx="381240" cy="117360"/>
          </a:xfrm>
          <a:custGeom>
            <a:avLst/>
            <a:gdLst>
              <a:gd name="textAreaLeft" fmla="*/ 59400 w 381240"/>
              <a:gd name="textAreaRight" fmla="*/ 333720 w 381240"/>
              <a:gd name="textAreaTop" fmla="*/ 29160 h 117360"/>
              <a:gd name="textAreaBottom" fmla="*/ 88200 h 117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0811400">
            <a:off x="5866920" y="3347640"/>
            <a:ext cx="333360" cy="133560"/>
          </a:xfrm>
          <a:custGeom>
            <a:avLst/>
            <a:gdLst>
              <a:gd name="textAreaLeft" fmla="*/ 51840 w 333360"/>
              <a:gd name="textAreaRight" fmla="*/ 291960 w 333360"/>
              <a:gd name="textAreaTop" fmla="*/ 33480 h 133560"/>
              <a:gd name="textAreaBottom" fmla="*/ 100440 h 133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7762800">
            <a:off x="6059880" y="3818520"/>
            <a:ext cx="381240" cy="115920"/>
          </a:xfrm>
          <a:custGeom>
            <a:avLst/>
            <a:gdLst>
              <a:gd name="textAreaLeft" fmla="*/ 59400 w 381240"/>
              <a:gd name="textAreaRight" fmla="*/ 333720 w 3812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54920" y="3387600"/>
            <a:ext cx="11412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983800">
            <a:off x="6674040" y="4069440"/>
            <a:ext cx="379440" cy="114120"/>
          </a:xfrm>
          <a:custGeom>
            <a:avLst/>
            <a:gdLst>
              <a:gd name="textAreaLeft" fmla="*/ 59040 w 379440"/>
              <a:gd name="textAreaRight" fmla="*/ 332280 w 37944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803200">
            <a:off x="7880040" y="3157560"/>
            <a:ext cx="334800" cy="135000"/>
          </a:xfrm>
          <a:custGeom>
            <a:avLst/>
            <a:gdLst>
              <a:gd name="textAreaLeft" fmla="*/ 52200 w 334800"/>
              <a:gd name="textAreaRight" fmla="*/ 293040 w 334800"/>
              <a:gd name="textAreaTop" fmla="*/ 33840 h 135000"/>
              <a:gd name="textAreaBottom" fmla="*/ 101520 h 135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398400">
            <a:off x="7889400" y="3490920"/>
            <a:ext cx="333360" cy="131760"/>
          </a:xfrm>
          <a:custGeom>
            <a:avLst/>
            <a:gdLst>
              <a:gd name="textAreaLeft" fmla="*/ 51840 w 333360"/>
              <a:gd name="textAreaRight" fmla="*/ 291960 w 333360"/>
              <a:gd name="textAreaTop" fmla="*/ 32760 h 131760"/>
              <a:gd name="textAreaBottom" fmla="*/ 99000 h 13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259000">
            <a:off x="6999480" y="4069440"/>
            <a:ext cx="379440" cy="114120"/>
          </a:xfrm>
          <a:custGeom>
            <a:avLst/>
            <a:gdLst>
              <a:gd name="textAreaLeft" fmla="*/ 59040 w 379440"/>
              <a:gd name="textAreaRight" fmla="*/ 332280 w 379440"/>
              <a:gd name="textAreaTop" fmla="*/ 28440 h 114120"/>
              <a:gd name="textAreaBottom" fmla="*/ 85680 h 11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362800">
            <a:off x="7282800" y="2634480"/>
            <a:ext cx="380880" cy="115920"/>
          </a:xfrm>
          <a:custGeom>
            <a:avLst/>
            <a:gdLst>
              <a:gd name="textAreaLeft" fmla="*/ 59400 w 380880"/>
              <a:gd name="textAreaRight" fmla="*/ 333360 w 38088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051680" y="2085480"/>
            <a:ext cx="144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3429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ellGothic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219320" y="2133720"/>
            <a:ext cx="2165400" cy="1906560"/>
            <a:chOff x="1219320" y="2133720"/>
            <a:chExt cx="2165400" cy="1906560"/>
          </a:xfrm>
        </p:grpSpPr>
        <p:sp>
          <p:nvSpPr>
            <p:cNvPr id="217" name=""/>
            <p:cNvSpPr/>
            <p:nvPr/>
          </p:nvSpPr>
          <p:spPr>
            <a:xfrm>
              <a:off x="1219320" y="2774880"/>
              <a:ext cx="1333440" cy="1263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90640" y="2774880"/>
              <a:ext cx="1333440" cy="12636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2133720"/>
              <a:ext cx="3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BellGothic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89200" y="2786040"/>
              <a:ext cx="728640" cy="125424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6600"/>
                </a:gs>
                <a:gs pos="100000">
                  <a:srgbClr val="00cc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62160" y="3430440"/>
              <a:ext cx="12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162160" y="2441520"/>
              <a:ext cx="1440" cy="9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80880" y="1981080"/>
            <a:ext cx="5791320" cy="2578320"/>
            <a:chOff x="380880" y="1981080"/>
            <a:chExt cx="5791320" cy="2578320"/>
          </a:xfrm>
        </p:grpSpPr>
        <p:sp>
          <p:nvSpPr>
            <p:cNvPr id="224" name=""/>
            <p:cNvSpPr/>
            <p:nvPr/>
          </p:nvSpPr>
          <p:spPr>
            <a:xfrm>
              <a:off x="3048120" y="1981080"/>
              <a:ext cx="31240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6009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d60093"/>
                  </a:solidFill>
                  <a:latin typeface="Times New Roman"/>
                </a:rPr>
                <a:t>distance of fast parton propo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60093"/>
                  </a:solidFill>
                  <a:latin typeface="Times New Roman"/>
                </a:rPr>
                <a:t>(energy lo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80880" y="3276720"/>
              <a:ext cx="2170800" cy="1282680"/>
              <a:chOff x="380880" y="3276720"/>
              <a:chExt cx="2170800" cy="1282680"/>
            </a:xfrm>
          </p:grpSpPr>
          <p:sp>
            <p:nvSpPr>
              <p:cNvPr id="226" name=""/>
              <p:cNvSpPr/>
              <p:nvPr/>
            </p:nvSpPr>
            <p:spPr>
              <a:xfrm>
                <a:off x="2133720" y="3429000"/>
                <a:ext cx="0" cy="83808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06200" y="4191120"/>
                <a:ext cx="64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Times New Roman"/>
                  </a:rPr>
                  <a:t>Jet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1066680" y="3429000"/>
                <a:ext cx="106704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0880" y="3276720"/>
                <a:ext cx="80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99"/>
                    </a:solidFill>
                    <a:latin typeface="Times New Roman"/>
                  </a:rPr>
                  <a:t>Jet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irill Filimonov,  ISMD 2002, Alush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FBD3-E585-494B-8580-9F41D69A2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rill Filimonov</cp:lastModifiedBy>
  <cp:lastPrinted>2001-01-13T21:47:10Z</cp:lastPrinted>
  <dcterms:modified xsi:type="dcterms:W3CDTF">2002-09-09T11:55:11Z</dcterms:modified>
  <cp:revision>193</cp:revision>
  <dc:subject/>
  <dc:title>PowerPoint Presentation</dc:title>
</cp:coreProperties>
</file>