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8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1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36.png" ContentType="image/png"/>
  <Override PartName="/ppt/media/image48.png" ContentType="image/png"/>
  <Override PartName="/ppt/media/image40.png" ContentType="image/png"/>
  <Override PartName="/ppt/media/image8.wmf" ContentType="image/x-wmf"/>
  <Override PartName="/ppt/media/image13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9342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336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97000" y="680760"/>
            <a:ext cx="454032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23400" y="4312800"/>
            <a:ext cx="508644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3A71-0E6F-4075-9009-C58A56E3D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741320" y="144360"/>
            <a:ext cx="3391200" cy="2543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217080" y="2959200"/>
            <a:ext cx="6512040" cy="59896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parison data and fit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model describe particle ratios perfectly, the point will stay on this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 ratios stay of line with in error bar, however K* to h- ratio deviate from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92904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F59A-814E-497A-A343-9305BC256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8626320"/>
            <a:ext cx="300528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929040" y="-360"/>
            <a:ext cx="300528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700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93720" y="4312800"/>
            <a:ext cx="554688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exander (Sascha) Bazilevsk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C507-193B-4BB5-8AF3-86F98A392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2376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EE4E-F3B5-4D99-A75D-7458ECF9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2376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9D1-B587-4E09-A494-50AA907E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2376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EA2-3CAD-4429-A76E-63428335D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2376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7B95-CED9-4DD1-87AF-6C68F4EB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2376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693-B2A5-4E3D-B15A-A530ADF9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2376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78B-F629-4135-A08A-430F8E9F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2376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957-309F-4134-8811-652DA24C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D047-1285-499B-B975-21E16F4E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2376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2F9A-5718-4072-9531-52E5044A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-2376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0A7F-71C0-4DE9-B332-0EB5900E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-2376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FE3-DD82-4A07-9D1A-544FCC96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89720"/>
            <a:ext cx="2057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86000" y="6489360"/>
            <a:ext cx="45705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69160" y="6489720"/>
            <a:ext cx="91440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6308-5F79-40D5-A60B-955A3481B114}" type="slidenum">
              <a:rPr b="0" lang="en-US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324480"/>
            <a:ext cx="754380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171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09480"/>
            <a:ext cx="7543800" cy="76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eview of Recent Results from RHIC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743200" y="5028840"/>
            <a:ext cx="3656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es C Dunlo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le Univers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MD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066680"/>
            <a:ext cx="8763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ent”:  published and preliminary from Quark Matter 2002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lk Observables: What can be learned from the final stat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ing with centrality: the bas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malization (hydrodynamics, chemical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 it occu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are the parameters, if it do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etrating probes: What can be learned about early tim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status of charm probes (dissociation in mediu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 status of search for partonic energy loss (density tomograph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4987-8A48-464B-979E-249A0D2DF6E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obing the Blastwave Picture: Spectra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38320" y="2133360"/>
            <a:ext cx="35053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how deviation from blastw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S: can be made to fi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stions on interpretation re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ier decoupling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observabl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uation in simpler systems (pA)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8063" t="-3402" r="0" b="9757"/>
          <a:stretch/>
        </p:blipFill>
        <p:spPr>
          <a:xfrm>
            <a:off x="450720" y="838080"/>
            <a:ext cx="4953240" cy="4780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599120" y="5486400"/>
            <a:ext cx="2370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s [GeV/c</a:t>
            </a:r>
            <a:r>
              <a:rPr b="0" lang="en-US" sz="3200" spc="-1" strike="noStrike" baseline="22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6200000">
            <a:off x="-859320" y="2992320"/>
            <a:ext cx="224568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p</a:t>
            </a:r>
            <a:r>
              <a:rPr b="0" lang="en-US" sz="3200" spc="-1" strike="noStrike" baseline="-18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[GeV/c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641840" y="1600200"/>
            <a:ext cx="914400" cy="4665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79920" y="1371600"/>
            <a:ext cx="249552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&lt;p</a:t>
            </a:r>
            <a:r>
              <a:rPr b="0" lang="en-US" sz="1600" spc="-1" strike="noStrike" baseline="-18000">
                <a:solidFill>
                  <a:srgbClr val="3333cc"/>
                </a:solidFill>
                <a:latin typeface="Verdana"/>
              </a:rPr>
              <a:t>T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&gt; prediction with T</a:t>
            </a:r>
            <a:r>
              <a:rPr b="0" lang="en-US" sz="1800" spc="-1" strike="noStrike" baseline="-20000">
                <a:solidFill>
                  <a:srgbClr val="3333cc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 and &lt;</a:t>
            </a:r>
            <a:r>
              <a:rPr b="0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&gt; obtained from blast wave model f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76920" y="5562720"/>
            <a:ext cx="2471760" cy="820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&lt;p</a:t>
            </a:r>
            <a:r>
              <a:rPr b="0" lang="en-US" sz="1600" spc="-1" strike="noStrike" baseline="-18000">
                <a:solidFill>
                  <a:srgbClr val="3333cc"/>
                </a:solidFill>
                <a:latin typeface="Verdana"/>
              </a:rPr>
              <a:t>T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&gt; prediction with T</a:t>
            </a:r>
            <a:r>
              <a:rPr b="0" lang="en-US" sz="1800" spc="-1" strike="noStrike" baseline="-20000">
                <a:solidFill>
                  <a:srgbClr val="3333cc"/>
                </a:solidFill>
                <a:latin typeface="Verdana"/>
              </a:rPr>
              <a:t>th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 obtained from model fit but assuming &lt;</a:t>
            </a:r>
            <a:r>
              <a:rPr b="0" lang="en-US" sz="1400" spc="-1" strike="noStrike">
                <a:solidFill>
                  <a:srgbClr val="3333cc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</a:rPr>
              <a:t>&gt;=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3803760" y="4114800"/>
            <a:ext cx="1225440" cy="1447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691-31D8-4E32-BE65-5BA49D38CD5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86200" y="762120"/>
            <a:ext cx="4419720" cy="44193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obing Blastwave Picture: Correla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52578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ace/time ordering in source reflected in correl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st-wave picture fits data well: promising once precision increa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60" y="838080"/>
            <a:ext cx="3547440" cy="3705840"/>
            <a:chOff x="360" y="838080"/>
            <a:chExt cx="3547440" cy="370584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2057400" y="838080"/>
              <a:ext cx="1490400" cy="11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>
              <a:off x="2057400" y="2057400"/>
              <a:ext cx="1490400" cy="109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4"/>
            <a:stretch/>
          </p:blipFill>
          <p:spPr>
            <a:xfrm>
              <a:off x="2057400" y="3352680"/>
              <a:ext cx="1490400" cy="11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360" y="868320"/>
              <a:ext cx="21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t = 0.15 GeV/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t = 0.7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0" y="2133360"/>
              <a:ext cx="199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Ka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pt = 0.5 GeV/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t = 0.7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60" y="3352680"/>
              <a:ext cx="1843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ff"/>
                  </a:solidFill>
                  <a:latin typeface="Times New Roman"/>
                </a:rPr>
                <a:t>Prot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ff"/>
                  </a:solidFill>
                  <a:latin typeface="Times New Roman"/>
                </a:rPr>
                <a:t>pt = 1. GeV/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ccff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>
                  <a:solidFill>
                    <a:srgbClr val="33ccff"/>
                  </a:solidFill>
                  <a:latin typeface="Times New Roman"/>
                </a:rPr>
                <a:t>t = 0.7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4802760" y="4114800"/>
            <a:ext cx="283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limi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422C-9250-4F5B-92BB-33E483BFA67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obing Chemical Equilibrium: Yield Ratios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44197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rge set of data on ratios from QM2002 and pub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ignificant deviation seen from statistical mod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” baryochemical potential, T consistent with lattice T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 question: is this due to statistical filling of phase space or actual equilibrat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458200" cy="348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7E5C-A293-4073-820E-18F4DE19CCF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obing ratios (and equilibrium) vs. rapidity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03" name="Figure4T" descr=""/>
          <p:cNvPicPr/>
          <p:nvPr/>
        </p:nvPicPr>
        <p:blipFill>
          <a:blip r:embed="rId1"/>
          <a:stretch/>
        </p:blipFill>
        <p:spPr>
          <a:xfrm>
            <a:off x="4729320" y="781200"/>
            <a:ext cx="3698640" cy="37335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04800" y="1930320"/>
            <a:ext cx="4027680" cy="229248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4419720"/>
            <a:ext cx="91440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ge-dependent ratios show plateau over |y| &lt;~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servation:  K-/K+ show universal behavior vs pbar/p over large range of s and 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ts statistical ansatz:  but why?  Ansatz only holds for all 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6040" y="933480"/>
            <a:ext cx="34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HMS prelimin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C74B-33D9-4486-AF1A-A9968A1599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rcRect l="4582" t="24781" r="23284" b="3337"/>
          <a:stretch/>
        </p:blipFill>
        <p:spPr>
          <a:xfrm>
            <a:off x="4648320" y="3276720"/>
            <a:ext cx="3352680" cy="3038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rcRect l="6362" t="22255" r="23284" b="3337"/>
          <a:stretch/>
        </p:blipFill>
        <p:spPr>
          <a:xfrm>
            <a:off x="380880" y="752400"/>
            <a:ext cx="3886200" cy="2590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446200" y="971640"/>
            <a:ext cx="1722600" cy="153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88884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+Au     40% to 8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1650960"/>
            <a:ext cx="221004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Rounded MT Bold"/>
              </a:rPr>
              <a:t>0.2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99"/>
                </a:solidFill>
                <a:latin typeface="Arial Rounded MT Bold"/>
              </a:rPr>
              <a:t> p</a:t>
            </a:r>
            <a:r>
              <a:rPr b="0" lang="en-US" sz="1600" spc="-1" strike="noStrike" baseline="-25000">
                <a:solidFill>
                  <a:srgbClr val="000099"/>
                </a:solidFill>
                <a:latin typeface="Arial Rounded MT Bold"/>
              </a:rPr>
              <a:t>T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</a:t>
            </a:r>
            <a:r>
              <a:rPr b="0" lang="en-US" sz="1600" spc="-1" strike="noStrike">
                <a:solidFill>
                  <a:srgbClr val="000099"/>
                </a:solidFill>
                <a:latin typeface="Arial Rounded MT Bold"/>
              </a:rPr>
              <a:t> 0.9 GeV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Rounded MT Bold"/>
              </a:rPr>
              <a:t>|y|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99"/>
                </a:solidFill>
                <a:latin typeface="Arial Rounded MT Bold"/>
              </a:rPr>
              <a:t> 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965160"/>
            <a:ext cx="60948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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imes New Roman"/>
              </a:rPr>
              <a:t>0    </a:t>
            </a:r>
            <a:r>
              <a:rPr b="1" lang="en-US" sz="1800" spc="-1" strike="noStrike">
                <a:solidFill>
                  <a:srgbClr val="33cc33"/>
                </a:solidFill>
                <a:latin typeface="Times New Roman"/>
              </a:rPr>
              <a:t>f</a:t>
            </a:r>
            <a:r>
              <a:rPr b="1" lang="en-US" sz="1800" spc="-1" strike="noStrike" baseline="-25000">
                <a:solidFill>
                  <a:srgbClr val="33cc33"/>
                </a:solidFill>
                <a:latin typeface="Times New Roman"/>
              </a:rPr>
              <a:t>0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ff00ff"/>
                </a:solidFill>
                <a:latin typeface="Times New Roman"/>
              </a:rPr>
              <a:t>K</a:t>
            </a:r>
            <a:r>
              <a:rPr b="1" lang="en-US" sz="1800" spc="-1" strike="noStrike" baseline="30000">
                <a:solidFill>
                  <a:srgbClr val="ff00ff"/>
                </a:solidFill>
                <a:latin typeface="Times New Roman"/>
              </a:rPr>
              <a:t>0</a:t>
            </a:r>
            <a:r>
              <a:rPr b="1" lang="en-US" sz="1800" spc="-1" strike="noStrike" baseline="-25000">
                <a:solidFill>
                  <a:srgbClr val="ff00ff"/>
                </a:solidFill>
                <a:latin typeface="Times New Roman"/>
              </a:rPr>
              <a:t>S    </a:t>
            </a:r>
            <a:r>
              <a:rPr b="1" lang="en-US" sz="1800" spc="-1" strike="noStrike">
                <a:solidFill>
                  <a:srgbClr val="3333cc"/>
                </a:solidFill>
                <a:latin typeface="Symbol"/>
                <a:ea typeface="Symbol"/>
              </a:rPr>
              <a:t>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99ff"/>
                </a:solidFill>
                <a:latin typeface="Times New Roman"/>
              </a:rPr>
              <a:t>K</a:t>
            </a:r>
            <a:r>
              <a:rPr b="1" lang="en-US" sz="1800" spc="-1" strike="noStrike" baseline="30000">
                <a:solidFill>
                  <a:srgbClr val="0099ff"/>
                </a:solidFill>
                <a:latin typeface="Times New Roman"/>
              </a:rPr>
              <a:t>*0</a:t>
            </a:r>
            <a:r>
              <a:rPr b="1" lang="en-US" sz="18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1066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</a:rPr>
              <a:t>STAR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rcRect l="5344" t="23226" r="22523" b="2890"/>
          <a:stretch/>
        </p:blipFill>
        <p:spPr>
          <a:xfrm>
            <a:off x="4343400" y="685800"/>
            <a:ext cx="3200400" cy="25909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095880" y="838080"/>
            <a:ext cx="1305000" cy="15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10414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 Rounded MT Bold"/>
              </a:rPr>
              <a:t>STAR Prelimin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1523880"/>
            <a:ext cx="2133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Rounded MT Bold"/>
              </a:rPr>
              <a:t>0.2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99"/>
                </a:solidFill>
                <a:latin typeface="Arial Rounded MT Bold"/>
              </a:rPr>
              <a:t> p</a:t>
            </a:r>
            <a:r>
              <a:rPr b="0" lang="en-US" sz="1600" spc="-1" strike="noStrike" baseline="-25000">
                <a:solidFill>
                  <a:srgbClr val="000099"/>
                </a:solidFill>
                <a:latin typeface="Arial Rounded MT Bold"/>
              </a:rPr>
              <a:t>T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</a:t>
            </a:r>
            <a:r>
              <a:rPr b="0" lang="en-US" sz="1600" spc="-1" strike="noStrike">
                <a:solidFill>
                  <a:srgbClr val="000099"/>
                </a:solidFill>
                <a:latin typeface="Arial Rounded MT Bold"/>
              </a:rPr>
              <a:t> 0.8 GeV/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 Rounded MT Bold"/>
              </a:rPr>
              <a:t>|y|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</a:t>
            </a:r>
            <a:r>
              <a:rPr b="0" lang="en-US" sz="1600" spc="-1" strike="noStrike">
                <a:solidFill>
                  <a:srgbClr val="000099"/>
                </a:solidFill>
                <a:latin typeface="Arial Rounded MT Bold"/>
              </a:rPr>
              <a:t> 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8128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38488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 Rounded MT Bold"/>
              </a:rPr>
              <a:t>Statistical error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44704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obing Rescattering: Resonanc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696080" y="5019840"/>
            <a:ext cx="0" cy="457200"/>
          </a:xfrm>
          <a:prstGeom prst="line">
            <a:avLst/>
          </a:prstGeom>
          <a:ln w="316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920640" y="34434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*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92960" y="44863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60160" y="562932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u A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3495240"/>
            <a:ext cx="40384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-lived resonances sensitive to rescattering after chemical freeze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truction of signal in hadronic chann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eneration in “elastic” scattering sta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53960" y="369324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*/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7C2B-5CB3-45F3-91C5-CDBC10D29B7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267080" y="685800"/>
            <a:ext cx="4648320" cy="430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715000" y="4952880"/>
                <a:ext cx="129528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7087320" y="5028840"/>
            <a:ext cx="139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unit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ecte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C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119320"/>
            <a:ext cx="194940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Gamma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increased 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Gamma ref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from inclu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p</a:t>
            </a:r>
            <a:r>
              <a:rPr b="0" lang="en-US" sz="1600" spc="-1" strike="noStrike" baseline="-25000">
                <a:solidFill>
                  <a:srgbClr val="008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 spect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rot="21588000">
            <a:off x="5181120" y="373356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6d71"/>
                </a:solidFill>
                <a:latin typeface="Bookman"/>
              </a:rPr>
              <a:t>STAR Prelimin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2362320"/>
            <a:ext cx="10666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705720" y="1828800"/>
            <a:ext cx="1066680" cy="38088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7010280" y="2743200"/>
            <a:ext cx="990720" cy="4572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obing Source Dynamics: Fluctuation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381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gnificant non-statistical fluctuations observ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MS width increased by 14±0.5% relative to refer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ENIX null result consistent with STAR results at smaller accep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rcRect l="0" t="47623" r="0" b="2911"/>
          <a:stretch/>
        </p:blipFill>
        <p:spPr>
          <a:xfrm>
            <a:off x="0" y="3657600"/>
            <a:ext cx="3962520" cy="259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 flipH="1">
            <a:off x="2285640" y="335268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19800000">
            <a:off x="2667600" y="4190040"/>
            <a:ext cx="120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Times New Roman"/>
              </a:rPr>
              <a:t>STA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7E86-567A-4CC8-B18A-626C33DF9F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clusions I: Bulk Observable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ar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ing holds we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mple variable &lt;Nch&gt; scales like e+e-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step further (&lt;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&gt;) not so si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ansion appears to be fast and freezeout sh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dynamics and local equilibrium: some puzz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st invariance, if holds at all, holds for |y|&lt;~0.5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reaches hydrodynamic limit in central collisions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ever, there is the nagging LDL-like behavi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BT puzzle: Still there.  Sizes too small for hydrodynam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ydro-motivated blast wave appears to be passing t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ce to have d+A as true baseline reference: RHIC run 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emical equilibrium: is there matter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stical models fit ratios we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ce to have d+A as true baseline reference: RHIC run 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e of rescattering stage through wide resonances begu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uctuations: measurements made, interpretation just begin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ED52-F440-4B87-8CB6-94A16CEF33A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harm: Open and Hidde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-360" y="798480"/>
            <a:ext cx="4419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electron spect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nsitive to open cha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istent with binary scaling of Pythia electron sources from char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evidence for breaking of binary sca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enhancement by ~3 (NA50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 suppression by ~3-4 (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/Psi measurements ma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rrently ~50%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gnificant conclusions await further stat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Confidence level on binary scaling 16% (statistical on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648320" y="762120"/>
            <a:ext cx="3954240" cy="2739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0" y="3581280"/>
            <a:ext cx="426708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FD07-070E-4134-85DB-EC2EA1A86E3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harged Hadron Spectra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to Large p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8839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iminary 200 GeV spectra from all four experi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tisfactory consistency within quoted systematic err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0" y="2743200"/>
            <a:ext cx="2505960" cy="3320640"/>
            <a:chOff x="0" y="2743200"/>
            <a:chExt cx="2505960" cy="3320640"/>
          </a:xfrm>
        </p:grpSpPr>
        <p:grpSp>
          <p:nvGrpSpPr>
            <p:cNvPr id="250" name=""/>
            <p:cNvGrpSpPr/>
            <p:nvPr/>
          </p:nvGrpSpPr>
          <p:grpSpPr>
            <a:xfrm>
              <a:off x="21960" y="3026880"/>
              <a:ext cx="2484000" cy="3036960"/>
              <a:chOff x="21960" y="3026880"/>
              <a:chExt cx="2484000" cy="3036960"/>
            </a:xfrm>
          </p:grpSpPr>
          <p:pic>
            <p:nvPicPr>
              <p:cNvPr id="251" name="" descr=""/>
              <p:cNvPicPr/>
              <p:nvPr/>
            </p:nvPicPr>
            <p:blipFill>
              <a:blip r:embed="rId1"/>
              <a:srcRect l="16585" t="7770" r="8039" b="2071"/>
              <a:stretch/>
            </p:blipFill>
            <p:spPr>
              <a:xfrm>
                <a:off x="21960" y="3026880"/>
                <a:ext cx="2287800" cy="303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2" name=""/>
              <p:cNvGrpSpPr/>
              <p:nvPr/>
            </p:nvGrpSpPr>
            <p:grpSpPr>
              <a:xfrm>
                <a:off x="849240" y="4042080"/>
                <a:ext cx="1656720" cy="388440"/>
                <a:chOff x="849240" y="4042080"/>
                <a:chExt cx="1656720" cy="3884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1104840" y="4076640"/>
                  <a:ext cx="14011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ff0000"/>
                      </a:solidFill>
                      <a:latin typeface="Trebuchet MS"/>
                    </a:rPr>
                    <a:t>Preliminary </a:t>
                  </a:r>
                  <a:r>
                    <a:rPr b="1" lang="en-US" sz="800" spc="-1" strike="noStrike">
                      <a:solidFill>
                        <a:srgbClr val="ff0000"/>
                      </a:solidFill>
                      <a:latin typeface="Symbol"/>
                      <a:ea typeface="Symbol"/>
                    </a:rPr>
                    <a:t></a:t>
                  </a:r>
                  <a:r>
                    <a:rPr b="1" lang="en-US" sz="800" spc="-1" strike="noStrike">
                      <a:solidFill>
                        <a:srgbClr val="ff0000"/>
                      </a:solidFill>
                      <a:latin typeface="Trebuchet MS"/>
                    </a:rPr>
                    <a:t>s</a:t>
                  </a:r>
                  <a:r>
                    <a:rPr b="1" lang="en-US" sz="800" spc="-1" strike="noStrike" baseline="-25000">
                      <a:solidFill>
                        <a:srgbClr val="ff0000"/>
                      </a:solidFill>
                      <a:latin typeface="Trebuchet MS"/>
                    </a:rPr>
                    <a:t>NN </a:t>
                  </a:r>
                  <a:r>
                    <a:rPr b="1" lang="en-US" sz="800" spc="-1" strike="noStrike">
                      <a:solidFill>
                        <a:srgbClr val="ff0000"/>
                      </a:solidFill>
                      <a:latin typeface="Trebuchet MS"/>
                    </a:rPr>
                    <a:t>= 200 GeV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254" name="" descr=""/>
                <p:cNvPicPr/>
                <p:nvPr/>
              </p:nvPicPr>
              <p:blipFill>
                <a:blip r:embed="rId2"/>
                <a:srcRect l="6691" t="17003" r="13330" b="15049"/>
                <a:stretch/>
              </p:blipFill>
              <p:spPr>
                <a:xfrm>
                  <a:off x="849240" y="4042080"/>
                  <a:ext cx="297360" cy="2289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55" name=""/>
              <p:cNvSpPr/>
              <p:nvPr/>
            </p:nvSpPr>
            <p:spPr>
              <a:xfrm>
                <a:off x="32400" y="3127320"/>
                <a:ext cx="2211840" cy="2638800"/>
              </a:xfrm>
              <a:prstGeom prst="rect">
                <a:avLst/>
              </a:prstGeom>
              <a:noFill/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0" y="2743200"/>
              <a:ext cx="2378880" cy="542160"/>
              <a:chOff x="0" y="2743200"/>
              <a:chExt cx="2378880" cy="542160"/>
            </a:xfrm>
          </p:grpSpPr>
          <p:sp>
            <p:nvSpPr>
              <p:cNvPr id="257" name=""/>
              <p:cNvSpPr/>
              <p:nvPr/>
            </p:nvSpPr>
            <p:spPr>
              <a:xfrm>
                <a:off x="466200" y="2801520"/>
                <a:ext cx="1912680" cy="483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Trebuchet MS"/>
                  </a:rPr>
                  <a:t>Preliminary 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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Trebuchet MS"/>
                  </a:rPr>
                  <a:t>s</a:t>
                </a:r>
                <a:r>
                  <a:rPr b="1" lang="en-US" sz="1200" spc="-1" strike="noStrike" baseline="-25000">
                    <a:solidFill>
                      <a:srgbClr val="ff0000"/>
                    </a:solidFill>
                    <a:latin typeface="Trebuchet MS"/>
                  </a:rPr>
                  <a:t>NN 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Trebuchet MS"/>
                  </a:rPr>
                  <a:t>= 200 GeV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58" name="" descr=""/>
              <p:cNvPicPr/>
              <p:nvPr/>
            </p:nvPicPr>
            <p:blipFill>
              <a:blip r:embed="rId3"/>
              <a:srcRect l="6691" t="17003" r="13330" b="15049"/>
              <a:stretch/>
            </p:blipFill>
            <p:spPr>
              <a:xfrm>
                <a:off x="0" y="2743200"/>
                <a:ext cx="455040" cy="349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59" name="" descr=""/>
          <p:cNvPicPr/>
          <p:nvPr/>
        </p:nvPicPr>
        <p:blipFill>
          <a:blip r:embed="rId4"/>
          <a:srcRect l="0" t="0" r="9158" b="0"/>
          <a:stretch/>
        </p:blipFill>
        <p:spPr>
          <a:xfrm>
            <a:off x="7004160" y="3279600"/>
            <a:ext cx="1998720" cy="29689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5"/>
          <a:stretch/>
        </p:blipFill>
        <p:spPr>
          <a:xfrm>
            <a:off x="2373480" y="3124080"/>
            <a:ext cx="1992240" cy="3124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4506840" y="3352680"/>
            <a:ext cx="2395440" cy="28958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31480" y="227664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06040" y="2286000"/>
            <a:ext cx="14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E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815720" y="2286000"/>
            <a:ext cx="15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B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320240" y="2286000"/>
            <a:ext cx="167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A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4021-1462-4793-8549-DDA02752FCD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04920" y="914400"/>
            <a:ext cx="41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30 GeV Yield Relative to 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0" y="1295280"/>
            <a:ext cx="4800600" cy="4497120"/>
            <a:chOff x="0" y="1295280"/>
            <a:chExt cx="4800600" cy="449712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rcRect l="0" t="1645" r="0" b="1302"/>
            <a:stretch/>
          </p:blipFill>
          <p:spPr>
            <a:xfrm>
              <a:off x="0" y="1296720"/>
              <a:ext cx="480060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596880" y="1295280"/>
              <a:ext cx="4186080" cy="406692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High p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Charged Hadron Suppression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800600" y="1295280"/>
            <a:ext cx="4114800" cy="2743200"/>
            <a:chOff x="4800600" y="1295280"/>
            <a:chExt cx="4114800" cy="2743200"/>
          </a:xfrm>
        </p:grpSpPr>
        <p:pic>
          <p:nvPicPr>
            <p:cNvPr id="272" name="" descr=""/>
            <p:cNvPicPr/>
            <p:nvPr/>
          </p:nvPicPr>
          <p:blipFill>
            <a:blip r:embed="rId2"/>
            <a:srcRect l="2991" t="0" r="1329" b="1659"/>
            <a:stretch/>
          </p:blipFill>
          <p:spPr>
            <a:xfrm>
              <a:off x="4800600" y="1295280"/>
              <a:ext cx="41148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743440" y="1413360"/>
              <a:ext cx="1780920" cy="48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rebuchet MS"/>
                </a:rPr>
                <a:t>Preliminary </a:t>
              </a:r>
              <a:r>
                <a:rPr b="1" lang="en-US" sz="12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</a:t>
              </a:r>
              <a:r>
                <a:rPr b="1" lang="en-US" sz="1200" spc="-1" strike="noStrike">
                  <a:solidFill>
                    <a:srgbClr val="ff0000"/>
                  </a:solidFill>
                  <a:latin typeface="Trebuchet MS"/>
                </a:rPr>
                <a:t>s</a:t>
              </a:r>
              <a:r>
                <a:rPr b="1" lang="en-US" sz="1200" spc="-1" strike="noStrike" baseline="-25000">
                  <a:solidFill>
                    <a:srgbClr val="ff0000"/>
                  </a:solidFill>
                  <a:latin typeface="Trebuchet MS"/>
                </a:rPr>
                <a:t>NN </a:t>
              </a:r>
              <a:r>
                <a:rPr b="1" lang="en-US" sz="1200" spc="-1" strike="noStrike">
                  <a:solidFill>
                    <a:srgbClr val="ff0000"/>
                  </a:solidFill>
                  <a:latin typeface="Trebuchet MS"/>
                </a:rPr>
                <a:t>= 200 Ge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" descr=""/>
            <p:cNvPicPr/>
            <p:nvPr/>
          </p:nvPicPr>
          <p:blipFill>
            <a:blip r:embed="rId3"/>
            <a:srcRect l="6691" t="17003" r="13330" b="15049"/>
            <a:stretch/>
          </p:blipFill>
          <p:spPr>
            <a:xfrm>
              <a:off x="5486400" y="1383120"/>
              <a:ext cx="300600" cy="215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"/>
          <p:cNvSpPr/>
          <p:nvPr/>
        </p:nvSpPr>
        <p:spPr>
          <a:xfrm>
            <a:off x="384120" y="5486400"/>
            <a:ext cx="173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nucl-ex/0206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144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0 GeV Central/Periph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800240" y="4191120"/>
            <a:ext cx="434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ly established: Yield suppression at high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ing question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or final state? (p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 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be quantitativ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BB1D-5D6E-482D-9214-7998C83B1E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The Baseline: Glauber Scaling from pp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51814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eline: Particle production scales two ways with centr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spcBef>
                <a:spcPts val="45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oft proce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3333cc"/>
                </a:solidFill>
                <a:latin typeface="Arial"/>
              </a:rPr>
              <a:t>part</a:t>
            </a: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 number of wounded nucleons or nucleons with at least one collision.  Maximum: A+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-23328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are processes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Arial"/>
              </a:rPr>
              <a:t>col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the number of underlying binary nucleon-nucleon collisions.  </a:t>
            </a:r>
            <a:r>
              <a:rPr b="1" lang="en-US" sz="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ximum: A*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105520" y="914400"/>
            <a:ext cx="3239640" cy="3801240"/>
            <a:chOff x="5105520" y="914400"/>
            <a:chExt cx="3239640" cy="3801240"/>
          </a:xfrm>
        </p:grpSpPr>
        <p:grpSp>
          <p:nvGrpSpPr>
            <p:cNvPr id="56" name=""/>
            <p:cNvGrpSpPr/>
            <p:nvPr/>
          </p:nvGrpSpPr>
          <p:grpSpPr>
            <a:xfrm>
              <a:off x="5105520" y="914400"/>
              <a:ext cx="3239640" cy="1043640"/>
              <a:chOff x="5105520" y="914400"/>
              <a:chExt cx="3239640" cy="1043640"/>
            </a:xfrm>
          </p:grpSpPr>
          <p:sp>
            <p:nvSpPr>
              <p:cNvPr id="57" name=""/>
              <p:cNvSpPr/>
              <p:nvPr/>
            </p:nvSpPr>
            <p:spPr>
              <a:xfrm>
                <a:off x="5600520" y="1159920"/>
                <a:ext cx="798480" cy="798120"/>
              </a:xfrm>
              <a:prstGeom prst="ellipse">
                <a:avLst/>
              </a:prstGeom>
              <a:gradFill rotWithShape="0">
                <a:gsLst>
                  <a:gs pos="0">
                    <a:srgbClr val="ff0000"/>
                  </a:gs>
                  <a:gs pos="100000">
                    <a:srgbClr val="fe8a8a"/>
                  </a:gs>
                </a:gsLst>
                <a:path path="rect">
                  <a:fillToRect l="50000" t="50000" r="50000" b="50000"/>
                </a:path>
              </a:gradFill>
              <a:ln w="50760">
                <a:solidFill>
                  <a:srgbClr val="ff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58" name=""/>
                  <p:cNvSpPr txBox="1"/>
                  <p:nvPr/>
                </p:nvSpPr>
                <p:spPr>
                  <a:xfrm>
                    <a:off x="6495120" y="1158480"/>
                    <a:ext cx="1850040" cy="704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eqAr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ρ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e>
                            </m:nary>
                          </m:e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hickness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unction</m:t>
                            </m:r>
                          </m:e>
                        </m:eqAr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59" name=""/>
              <p:cNvSpPr/>
              <p:nvPr/>
            </p:nvSpPr>
            <p:spPr>
              <a:xfrm>
                <a:off x="5631120" y="1282680"/>
                <a:ext cx="736920" cy="61200"/>
              </a:xfrm>
              <a:custGeom>
                <a:avLst/>
                <a:gdLst/>
                <a:ahLst/>
                <a:rect l="l" t="t" r="r" b="b"/>
                <a:pathLst>
                  <a:path w="528" h="48">
                    <a:moveTo>
                      <a:pt x="0" y="48"/>
                    </a:moveTo>
                    <a:lnTo>
                      <a:pt x="528" y="48"/>
                    </a:lnTo>
                    <a:lnTo>
                      <a:pt x="480" y="0"/>
                    </a:lnTo>
                    <a:lnTo>
                      <a:pt x="48" y="0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15480" bIns="1548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109120" y="1317240"/>
                <a:ext cx="49104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105520" y="1544040"/>
                <a:ext cx="491040" cy="0"/>
              </a:xfrm>
              <a:prstGeom prst="line">
                <a:avLst/>
              </a:prstGeom>
              <a:ln w="5076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62" name=""/>
                  <p:cNvSpPr txBox="1"/>
                  <p:nvPr/>
                </p:nvSpPr>
                <p:spPr>
                  <a:xfrm>
                    <a:off x="5784840" y="914400"/>
                    <a:ext cx="516960" cy="282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63" name=""/>
                  <p:cNvSpPr txBox="1"/>
                  <p:nvPr/>
                </p:nvSpPr>
                <p:spPr>
                  <a:xfrm>
                    <a:off x="5222880" y="1292760"/>
                    <a:ext cx="186840" cy="235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d</m:t>
                        </m:r>
                      </m:oMath>
                    </a14:m>
                  </a:p>
                </p:txBody>
              </p:sp>
            </mc:Choice>
            <mc:Fallback/>
          </mc:AlternateContent>
        </p:grpSp>
        <p:grpSp>
          <p:nvGrpSpPr>
            <p:cNvPr id="64" name=""/>
            <p:cNvGrpSpPr/>
            <p:nvPr/>
          </p:nvGrpSpPr>
          <p:grpSpPr>
            <a:xfrm>
              <a:off x="5733720" y="1930320"/>
              <a:ext cx="2611440" cy="2785320"/>
              <a:chOff x="5733720" y="1930320"/>
              <a:chExt cx="2611440" cy="278532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5733720" y="2715840"/>
                <a:ext cx="2611440" cy="1999800"/>
                <a:chOff x="5733720" y="2715840"/>
                <a:chExt cx="2611440" cy="19998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66" name=""/>
                    <p:cNvSpPr txBox="1"/>
                    <p:nvPr/>
                  </p:nvSpPr>
                  <p:spPr>
                    <a:xfrm>
                      <a:off x="5733720" y="3926160"/>
                      <a:ext cx="2611440" cy="78948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eqArr>
                            <m:e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AB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b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nary>
                                <m:naryPr>
                                  <m:chr m:val="∫"/>
                                  <m:subHide m:val="1"/>
                                  <m:supHide m:val="1"/>
                                </m:naryPr>
                                <m:sub/>
                                <m:sup/>
                                <m:e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A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s</m:t>
                                  </m:r>
                                  <m:r>
                                    <m:t xml:space="preserve">+</m:t>
                                  </m:r>
                                </m:e>
                              </m:nary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B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s</m:t>
                              </m:r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b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  <m:r>
                                <m:t xml:space="preserve">)</m:t>
                              </m:r>
                              <m:r>
                                <m:t xml:space="preserve"> </m:t>
                              </m:r>
                              <m:r>
                                <m:t xml:space="preserve">d</m:t>
                              </m:r>
                              <m:r>
                                <m:t xml:space="preserve">s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Overlap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Function</m:t>
                              </m:r>
                            </m:e>
                          </m:eqArr>
                        </m:oMath>
                      </a14:m>
                    </a:p>
                  </p:txBody>
                </p:sp>
              </mc:Choice>
              <mc:Fallback/>
            </mc:AlternateContent>
            <p:grpSp>
              <p:nvGrpSpPr>
                <p:cNvPr id="67" name=""/>
                <p:cNvGrpSpPr/>
                <p:nvPr/>
              </p:nvGrpSpPr>
              <p:grpSpPr>
                <a:xfrm>
                  <a:off x="5900400" y="2715840"/>
                  <a:ext cx="2002680" cy="1155240"/>
                  <a:chOff x="5900400" y="2715840"/>
                  <a:chExt cx="2002680" cy="115524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7179840" y="3156120"/>
                    <a:ext cx="723240" cy="714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e8a8a"/>
                      </a:gs>
                    </a:gsLst>
                    <a:path path="rect">
                      <a:fillToRect l="50000" t="50000" r="50000" b="50000"/>
                    </a:path>
                  </a:gradFill>
                  <a:ln w="50760">
                    <a:solidFill>
                      <a:srgbClr val="ff99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6348960" y="2715840"/>
                    <a:ext cx="722880" cy="714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0000"/>
                      </a:gs>
                      <a:gs pos="100000">
                        <a:srgbClr val="fe8a8a"/>
                      </a:gs>
                    </a:gsLst>
                    <a:path path="rect">
                      <a:fillToRect l="50000" t="50000" r="50000" b="50000"/>
                    </a:path>
                  </a:gradFill>
                  <a:ln w="50760">
                    <a:solidFill>
                      <a:srgbClr val="ff99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14760" y="3265920"/>
                    <a:ext cx="66744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48">
                        <a:moveTo>
                          <a:pt x="0" y="48"/>
                        </a:moveTo>
                        <a:lnTo>
                          <a:pt x="528" y="48"/>
                        </a:lnTo>
                        <a:lnTo>
                          <a:pt x="480" y="0"/>
                        </a:lnTo>
                        <a:lnTo>
                          <a:pt x="48" y="0"/>
                        </a:lnTo>
                        <a:lnTo>
                          <a:pt x="0" y="48"/>
                        </a:lnTo>
                        <a:close/>
                      </a:path>
                    </a:pathLst>
                  </a:custGeom>
                  <a:solidFill>
                    <a:srgbClr val="3366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9360" bIns="9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V="1">
                    <a:off x="5900400" y="3527280"/>
                    <a:ext cx="1224000" cy="1368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120" bIns="-33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5900400" y="3059640"/>
                    <a:ext cx="444960" cy="0"/>
                  </a:xfrm>
                  <a:prstGeom prst="line">
                    <a:avLst/>
                  </a:prstGeom>
                  <a:ln w="50760">
                    <a:solidFill>
                      <a:srgbClr val="0000ff"/>
                    </a:solidFill>
                    <a:prstDash val="sys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mc:AlternateContent>
                <mc:Choice xmlns:a14="http://schemas.microsoft.com/office/drawing/2010/main" Requires="a14">
                  <p:sp>
                    <p:nvSpPr>
                      <p:cNvPr id="73" name=""/>
                      <p:cNvSpPr txBox="1"/>
                      <p:nvPr/>
                    </p:nvSpPr>
                    <p:spPr>
                      <a:xfrm>
                        <a:off x="6006960" y="3122640"/>
                        <a:ext cx="232560" cy="321840"/>
                      </a:xfrm>
                      <a:prstGeom prst="rect">
                        <a:avLst/>
                      </a:prstGeom>
                    </p:spPr>
                    <p:txBody>
                      <a:bodyPr/>
                      <a:p>
                        <a14:m>
                          <m:oMath xmlns:m="http://schemas.openxmlformats.org/officeDocument/2006/math">
                            <m:r>
                              <m:t xml:space="preserve">b</m:t>
                            </m:r>
                          </m:oMath>
                        </a14:m>
                      </a:p>
                    </p:txBody>
                  </p:sp>
                </mc:Choice>
                <mc:Fallback/>
              </mc:AlternateContent>
              <p:sp>
                <p:nvSpPr>
                  <p:cNvPr id="74" name=""/>
                  <p:cNvSpPr/>
                  <p:nvPr/>
                </p:nvSpPr>
                <p:spPr>
                  <a:xfrm>
                    <a:off x="6400800" y="3272760"/>
                    <a:ext cx="61164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528" h="48">
                        <a:moveTo>
                          <a:pt x="48" y="48"/>
                        </a:moveTo>
                        <a:lnTo>
                          <a:pt x="480" y="48"/>
                        </a:lnTo>
                        <a:lnTo>
                          <a:pt x="528" y="0"/>
                        </a:lnTo>
                        <a:lnTo>
                          <a:pt x="0" y="0"/>
                        </a:lnTo>
                        <a:lnTo>
                          <a:pt x="48" y="48"/>
                        </a:lnTo>
                        <a:close/>
                      </a:path>
                    </a:pathLst>
                  </a:custGeom>
                  <a:solidFill>
                    <a:srgbClr val="3366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9360" bIns="936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5" name=""/>
              <p:cNvSpPr/>
              <p:nvPr/>
            </p:nvSpPr>
            <p:spPr>
              <a:xfrm>
                <a:off x="7387920" y="1930320"/>
                <a:ext cx="290160" cy="986040"/>
              </a:xfrm>
              <a:prstGeom prst="downArrow">
                <a:avLst>
                  <a:gd name="adj1" fmla="val 50000"/>
                  <a:gd name="adj2" fmla="val 84957"/>
                </a:avLst>
              </a:prstGeom>
              <a:solidFill>
                <a:srgbClr val="00cc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457200" y="3276720"/>
            <a:ext cx="3580920" cy="1652400"/>
            <a:chOff x="457200" y="3276720"/>
            <a:chExt cx="3580920" cy="165240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457200" y="3276720"/>
                  <a:ext cx="3064680" cy="16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If    Nucleus 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  has A constituents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and Nucleus </m:t>
                          </m:r>
                          <m:r>
                            <m:t xml:space="preserve">B</m:t>
                          </m:r>
                          <m:r>
                            <m:rPr>
                              <m:lit/>
                              <m:nor/>
                            </m:rPr>
                            <m:t xml:space="preserve"/>
                          </m:r>
                          <m:r>
                            <m:rPr>
                              <m:lit/>
                              <m:nor/>
                            </m:rPr>
                            <m:t xml:space="preserve">  has B constituents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which interact with cross section 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T</m:t>
                              </m:r>
                            </m:sub>
                          </m:sSub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the TOTAL cross section 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 is then</m:t>
                          </m:r>
                        </m:e>
                        <m:e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  <m:r>
                            <m:t xml:space="preserve">=</m:t>
                          </m:r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p>
                                <m:e>
                                  <m:r>
                                    <m:t xml:space="preserve">d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nary>
                          <m:r>
                            <m:t xml:space="preserve">b</m:t>
                          </m:r>
                          <m:r>
                            <m:t xml:space="preserve"> 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 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INT</m:t>
                                      </m:r>
                                    </m:sub>
                                  </m:sSub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AB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r>
                                    <m:t xml:space="preserve">b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d>
                        </m:e>
                        <m:e>
                          <m:r>
                            <m:t xml:space="preserve"> </m:t>
                          </m:r>
                          <m:r>
                            <m:t xml:space="preserve">→</m:t>
                          </m:r>
                          <m:r>
                            <m:t xml:space="preserve">≈</m:t>
                          </m:r>
                          <m:r>
                            <m:t xml:space="preserve"> </m:t>
                          </m:r>
                          <m:r>
                            <m:t xml:space="preserve">A</m:t>
                          </m:r>
                          <m:r>
                            <m:t xml:space="preserve">⋅</m:t>
                          </m:r>
                          <m:r>
                            <m:t xml:space="preserve">B</m:t>
                          </m:r>
                          <m:r>
                            <m:t xml:space="preserve"> </m:t>
                          </m:r>
                          <m:r>
                            <m:t xml:space="preserve">×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T</m:t>
                              </m:r>
                            </m:sub>
                          </m:sSub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for </m:t>
                          </m:r>
                          <m:r>
                            <m:t xml:space="preserve">small</m:t>
                          </m:r>
                          <m:r>
                            <m:rPr>
                              <m:lit/>
                              <m:nor/>
                            </m:rPr>
                            <m:t xml:space="preserve"> </m:t>
                          </m:r>
                          <m:sSub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NT</m:t>
                              </m:r>
                            </m:sub>
                          </m:sSub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8" name=""/>
            <p:cNvSpPr/>
            <p:nvPr/>
          </p:nvSpPr>
          <p:spPr>
            <a:xfrm>
              <a:off x="3548520" y="4112280"/>
              <a:ext cx="489600" cy="244800"/>
            </a:xfrm>
            <a:prstGeom prst="leftArrow">
              <a:avLst>
                <a:gd name="adj1" fmla="val 50000"/>
                <a:gd name="adj2" fmla="val 50000"/>
              </a:avLst>
            </a:prstGeom>
            <a:solidFill>
              <a:srgbClr val="00cc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5029200"/>
            <a:ext cx="9144000" cy="126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escrip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Find a quantity (Mult., E</a:t>
            </a:r>
            <a:r>
              <a:rPr b="1" lang="en-US" sz="1800" spc="-1" strike="noStrike" baseline="-25000">
                <a:solidFill>
                  <a:srgbClr val="003300"/>
                </a:solidFill>
                <a:latin typeface="Arial"/>
              </a:rPr>
              <a:t>ZDC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) monotonically changing with decreasing b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Match the region of cross-section (e.g. 0-5%) to Glauber model cal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Use &lt;N</a:t>
            </a:r>
            <a:r>
              <a:rPr b="1" lang="en-US" sz="1800" spc="-1" strike="noStrike" baseline="-25000">
                <a:solidFill>
                  <a:srgbClr val="003300"/>
                </a:solidFill>
                <a:latin typeface="Arial"/>
              </a:rPr>
              <a:t>part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&gt;, &lt;N</a:t>
            </a:r>
            <a:r>
              <a:rPr b="1" lang="en-US" sz="1800" spc="-1" strike="noStrike" baseline="-25000">
                <a:solidFill>
                  <a:srgbClr val="003300"/>
                </a:solidFill>
                <a:latin typeface="Arial"/>
              </a:rPr>
              <a:t>coll</a:t>
            </a: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&gt;, etc. from the Glauber calculation for scaling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9003-4C15-4BD5-B019-CEB79F4D713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 baseline="30000">
                <a:solidFill>
                  <a:srgbClr val="3333cc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: Identified Particle Suppression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-360" y="4935600"/>
            <a:ext cx="4800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mical composition at high pt nontrivial: better to identif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+p reference measured by PHE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029200" y="3352680"/>
            <a:ext cx="4114800" cy="28782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0" y="685800"/>
            <a:ext cx="4419720" cy="40910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3"/>
          <a:srcRect l="4022" t="6783" r="7037" b="0"/>
          <a:stretch/>
        </p:blipFill>
        <p:spPr>
          <a:xfrm>
            <a:off x="5029200" y="685800"/>
            <a:ext cx="4114800" cy="2557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5636880" y="188748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49160" y="2039760"/>
            <a:ext cx="1604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DACD-0161-401D-B3EC-BEA1CA57F24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0" y="685800"/>
            <a:ext cx="5410080" cy="3607200"/>
            <a:chOff x="0" y="685800"/>
            <a:chExt cx="5410080" cy="3607200"/>
          </a:xfrm>
        </p:grpSpPr>
        <p:pic>
          <p:nvPicPr>
            <p:cNvPr id="286" name="" descr=""/>
            <p:cNvPicPr/>
            <p:nvPr/>
          </p:nvPicPr>
          <p:blipFill>
            <a:blip r:embed="rId1"/>
            <a:srcRect l="0" t="7742" r="8054" b="2581"/>
            <a:stretch/>
          </p:blipFill>
          <p:spPr>
            <a:xfrm>
              <a:off x="0" y="917280"/>
              <a:ext cx="5410080" cy="334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661680" y="685800"/>
              <a:ext cx="46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. Gyulassy, I. Vitev and X.N. Wang, nucl-th/0001209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61680" y="3985920"/>
              <a:ext cx="245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ler </a:t>
              </a:r>
              <a:r>
                <a:rPr b="0" i="1" lang="en-US" sz="1400" spc="-1" strike="noStrike">
                  <a:solidFill>
                    <a:srgbClr val="ffffff"/>
                  </a:solidFill>
                  <a:latin typeface="Arial"/>
                </a:rPr>
                <a:t>et 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., nucl-ex/02060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Source Geometry: v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at High p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0" y="45716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isotropy persists to high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hydrodynamics f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t results from STAR, PHENIX, PHOB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-flow effects significant (~15-20%), as seen by 4-particle correl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ion of coupling of geometry and opacit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rcRect l="0" t="7528" r="0" b="0"/>
          <a:stretch/>
        </p:blipFill>
        <p:spPr>
          <a:xfrm>
            <a:off x="5334120" y="1219320"/>
            <a:ext cx="3809880" cy="237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511A-3152-466D-A7DF-3A29B79534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bsorption Model: v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at High p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8920" y="826920"/>
            <a:ext cx="28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. Shuryak, nucl-th/01120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1444680" y="1447920"/>
            <a:ext cx="3479040" cy="2404080"/>
            <a:chOff x="1444680" y="1447920"/>
            <a:chExt cx="3479040" cy="2404080"/>
          </a:xfrm>
        </p:grpSpPr>
        <p:pic>
          <p:nvPicPr>
            <p:cNvPr id="295" name="" descr=""/>
            <p:cNvPicPr/>
            <p:nvPr/>
          </p:nvPicPr>
          <p:blipFill>
            <a:blip r:embed="rId1"/>
            <a:stretch/>
          </p:blipFill>
          <p:spPr>
            <a:xfrm>
              <a:off x="1768320" y="1447920"/>
              <a:ext cx="2629800" cy="20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 rot="16122000">
              <a:off x="1600560" y="1418400"/>
              <a:ext cx="308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v</a:t>
              </a:r>
              <a:r>
                <a:rPr b="1" lang="en-US" sz="16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57680" y="3544920"/>
              <a:ext cx="206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impact parameter (f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029200" y="838080"/>
            <a:ext cx="3808440" cy="5257800"/>
            <a:chOff x="5029200" y="838080"/>
            <a:chExt cx="3808440" cy="5257800"/>
          </a:xfrm>
        </p:grpSpPr>
        <p:grpSp>
          <p:nvGrpSpPr>
            <p:cNvPr id="299" name=""/>
            <p:cNvGrpSpPr/>
            <p:nvPr/>
          </p:nvGrpSpPr>
          <p:grpSpPr>
            <a:xfrm>
              <a:off x="5029200" y="838080"/>
              <a:ext cx="3808440" cy="5257800"/>
              <a:chOff x="5029200" y="838080"/>
              <a:chExt cx="3808440" cy="5257800"/>
            </a:xfrm>
          </p:grpSpPr>
          <p:pic>
            <p:nvPicPr>
              <p:cNvPr id="3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9200" y="838080"/>
                <a:ext cx="3808440" cy="52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 flipH="1">
                <a:off x="6779880" y="1311480"/>
                <a:ext cx="27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8481960" y="1367640"/>
                <a:ext cx="27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6701040" y="2607480"/>
                <a:ext cx="27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8470800" y="2663640"/>
                <a:ext cx="27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6712920" y="3813480"/>
                <a:ext cx="270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>
                <a:off x="8481960" y="3870000"/>
                <a:ext cx="27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6723720" y="5076000"/>
                <a:ext cx="27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8481960" y="5154840"/>
                <a:ext cx="270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5360040" y="1176120"/>
              <a:ext cx="473400" cy="337680"/>
              <a:chOff x="5360040" y="1176120"/>
              <a:chExt cx="473400" cy="337680"/>
            </a:xfrm>
          </p:grpSpPr>
          <p:sp>
            <p:nvSpPr>
              <p:cNvPr id="310" name=""/>
              <p:cNvSpPr/>
              <p:nvPr/>
            </p:nvSpPr>
            <p:spPr>
              <a:xfrm>
                <a:off x="5360040" y="1176120"/>
                <a:ext cx="344160" cy="337680"/>
              </a:xfrm>
              <a:prstGeom prst="star5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575320" y="1314000"/>
                <a:ext cx="142200" cy="8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575320" y="1325160"/>
                <a:ext cx="142200" cy="87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320" bIns="40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497200" y="1283760"/>
                <a:ext cx="336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T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"/>
          <p:cNvSpPr/>
          <p:nvPr/>
        </p:nvSpPr>
        <p:spPr>
          <a:xfrm>
            <a:off x="0" y="4038480"/>
            <a:ext cx="518148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orption in interior leads to finite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face emission” 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served anisotropy at high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s clos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maximum possible in a geometric absorp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28600" y="1219320"/>
            <a:ext cx="1182240" cy="2304720"/>
            <a:chOff x="228600" y="1219320"/>
            <a:chExt cx="1182240" cy="2304720"/>
          </a:xfrm>
        </p:grpSpPr>
        <p:sp>
          <p:nvSpPr>
            <p:cNvPr id="316" name=""/>
            <p:cNvSpPr/>
            <p:nvPr/>
          </p:nvSpPr>
          <p:spPr>
            <a:xfrm>
              <a:off x="228600" y="1783080"/>
              <a:ext cx="1182240" cy="1740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6320" y="2001960"/>
              <a:ext cx="905400" cy="13266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934560" y="1535040"/>
              <a:ext cx="77400" cy="34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1012320" y="1219320"/>
              <a:ext cx="4032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 flipV="1">
              <a:off x="934200" y="1219320"/>
              <a:ext cx="3852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1052640" y="1294200"/>
              <a:ext cx="117720" cy="1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34560" y="1926360"/>
              <a:ext cx="0" cy="303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7280" y="2242080"/>
              <a:ext cx="243720" cy="360000"/>
            </a:xfrm>
            <a:custGeom>
              <a:avLst/>
              <a:gdLst/>
              <a:ahLst/>
              <a:rect l="l" t="t" r="r" b="b"/>
              <a:pathLst>
                <a:path w="296" h="456">
                  <a:moveTo>
                    <a:pt x="240" y="0"/>
                  </a:moveTo>
                  <a:cubicBezTo>
                    <a:pt x="164" y="48"/>
                    <a:pt x="88" y="96"/>
                    <a:pt x="96" y="144"/>
                  </a:cubicBezTo>
                  <a:cubicBezTo>
                    <a:pt x="104" y="192"/>
                    <a:pt x="296" y="240"/>
                    <a:pt x="288" y="288"/>
                  </a:cubicBezTo>
                  <a:cubicBezTo>
                    <a:pt x="280" y="336"/>
                    <a:pt x="96" y="408"/>
                    <a:pt x="48" y="432"/>
                  </a:cubicBezTo>
                  <a:cubicBezTo>
                    <a:pt x="0" y="456"/>
                    <a:pt x="0" y="444"/>
                    <a:pt x="0" y="432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81760" y="2503440"/>
              <a:ext cx="316440" cy="459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3CB9-4A0D-4021-AE35-7843FA1C46F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Azimuthal Correlations: Jet-like Structures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4572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rged tracks (STA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artic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4-6 GeV/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 for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gt; 2 GeV/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gnature of j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2640" y="761760"/>
            <a:ext cx="45813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(PHENI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gger particle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gt; 2.5 GeV/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ion for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2-4 GeV/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572000" y="2438280"/>
            <a:ext cx="2286000" cy="217656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2"/>
          <a:srcRect l="0" t="0" r="8572" b="0"/>
          <a:stretch/>
        </p:blipFill>
        <p:spPr>
          <a:xfrm>
            <a:off x="0" y="2514600"/>
            <a:ext cx="4572000" cy="34480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rcRect l="0" t="0" r="78838" b="4327"/>
          <a:stretch/>
        </p:blipFill>
        <p:spPr>
          <a:xfrm>
            <a:off x="6934320" y="2362320"/>
            <a:ext cx="2209680" cy="20779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rot="16200000">
            <a:off x="5899320" y="3471120"/>
            <a:ext cx="23158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lation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48320" y="4648320"/>
            <a:ext cx="4495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olution with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onsistent with jet hypo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12240" y="5791320"/>
            <a:ext cx="76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Width, charge dependence consistent with p+p: je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7620120" y="3505320"/>
            <a:ext cx="609480" cy="1218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73320" y="26431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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108080" y="35053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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743200" y="28195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2057400" y="32767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52800" y="5029200"/>
            <a:ext cx="30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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0.5)- (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&gt;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35C8-59FC-44BD-977B-1151EBC6E14E}" type="slidenum">
              <a:t>2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eripheral Au+Au data vs. pp+flow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159680" cy="4856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522440" y="762120"/>
                <a:ext cx="6176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Df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43" name=""/>
          <p:cNvGrpSpPr/>
          <p:nvPr/>
        </p:nvGrpSpPr>
        <p:grpSpPr>
          <a:xfrm>
            <a:off x="1752480" y="1295280"/>
            <a:ext cx="1563480" cy="691200"/>
            <a:chOff x="1752480" y="1295280"/>
            <a:chExt cx="1563480" cy="691200"/>
          </a:xfrm>
        </p:grpSpPr>
        <p:grpSp>
          <p:nvGrpSpPr>
            <p:cNvPr id="344" name=""/>
            <p:cNvGrpSpPr/>
            <p:nvPr/>
          </p:nvGrpSpPr>
          <p:grpSpPr>
            <a:xfrm>
              <a:off x="1752480" y="1295280"/>
              <a:ext cx="739080" cy="609120"/>
              <a:chOff x="1752480" y="1295280"/>
              <a:chExt cx="739080" cy="609120"/>
            </a:xfrm>
          </p:grpSpPr>
          <p:sp>
            <p:nvSpPr>
              <p:cNvPr id="345" name=""/>
              <p:cNvSpPr/>
              <p:nvPr/>
            </p:nvSpPr>
            <p:spPr>
              <a:xfrm>
                <a:off x="1752480" y="1295280"/>
                <a:ext cx="537840" cy="609120"/>
              </a:xfrm>
              <a:prstGeom prst="star5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088720" y="1544040"/>
                <a:ext cx="222480" cy="15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088720" y="1564200"/>
                <a:ext cx="222480" cy="15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966680" y="1489680"/>
                <a:ext cx="5248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T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2175120" y="1679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Comic Sans MS"/>
                </a:rPr>
                <a:t>Prelimin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B3C-6D78-48AC-819D-17B7712784C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Central Au+Au data vs. pp+flow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757080" y="1141560"/>
            <a:ext cx="7158240" cy="485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1522440" y="685800"/>
                <a:ext cx="6176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Df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53" name=""/>
          <p:cNvGrpSpPr/>
          <p:nvPr/>
        </p:nvGrpSpPr>
        <p:grpSpPr>
          <a:xfrm>
            <a:off x="1676520" y="1295280"/>
            <a:ext cx="1563480" cy="691200"/>
            <a:chOff x="1676520" y="1295280"/>
            <a:chExt cx="1563480" cy="691200"/>
          </a:xfrm>
        </p:grpSpPr>
        <p:grpSp>
          <p:nvGrpSpPr>
            <p:cNvPr id="354" name=""/>
            <p:cNvGrpSpPr/>
            <p:nvPr/>
          </p:nvGrpSpPr>
          <p:grpSpPr>
            <a:xfrm>
              <a:off x="1676520" y="1295280"/>
              <a:ext cx="739080" cy="609120"/>
              <a:chOff x="1676520" y="1295280"/>
              <a:chExt cx="739080" cy="609120"/>
            </a:xfrm>
          </p:grpSpPr>
          <p:sp>
            <p:nvSpPr>
              <p:cNvPr id="355" name=""/>
              <p:cNvSpPr/>
              <p:nvPr/>
            </p:nvSpPr>
            <p:spPr>
              <a:xfrm>
                <a:off x="1676520" y="1295280"/>
                <a:ext cx="537840" cy="609120"/>
              </a:xfrm>
              <a:prstGeom prst="star5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012760" y="1544040"/>
                <a:ext cx="222480" cy="15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012760" y="1564200"/>
                <a:ext cx="222480" cy="15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890720" y="1489680"/>
                <a:ext cx="52488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Times New Roman"/>
                  </a:rPr>
                  <a:t>STA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2099160" y="1679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Comic Sans MS"/>
                </a:rPr>
                <a:t>Prelimin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DFEE-CAD4-419D-955F-69603146E40D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299200" y="1523880"/>
            <a:ext cx="3733560" cy="2532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0" y="762120"/>
                <a:ext cx="6176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u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2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Df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Quantitative parametrization of disappearanc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5769000" y="1600200"/>
            <a:ext cx="3111480" cy="2057400"/>
            <a:chOff x="5769000" y="1600200"/>
            <a:chExt cx="3111480" cy="2057400"/>
          </a:xfrm>
        </p:grpSpPr>
        <p:sp>
          <p:nvSpPr>
            <p:cNvPr id="364" name=""/>
            <p:cNvSpPr/>
            <p:nvPr/>
          </p:nvSpPr>
          <p:spPr>
            <a:xfrm>
              <a:off x="5769000" y="1600200"/>
              <a:ext cx="444600" cy="20574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436240" y="1600200"/>
              <a:ext cx="444240" cy="20574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912000" y="1600200"/>
              <a:ext cx="819360" cy="205740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tion of opacity of the source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alternative explanations such as nuclear k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ed pA and measurements to higher 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451480" y="3962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way-side correlations disappear as collision becomes more cen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01720" y="710280"/>
            <a:ext cx="29361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gg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4 GeV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late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2 GeV/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0" y="1295280"/>
            <a:ext cx="5029200" cy="3702240"/>
            <a:chOff x="0" y="1295280"/>
            <a:chExt cx="5029200" cy="3702240"/>
          </a:xfrm>
        </p:grpSpPr>
        <p:pic>
          <p:nvPicPr>
            <p:cNvPr id="371" name="" descr=""/>
            <p:cNvPicPr/>
            <p:nvPr/>
          </p:nvPicPr>
          <p:blipFill>
            <a:blip r:embed="rId2"/>
            <a:srcRect l="0" t="0" r="7869" b="0"/>
            <a:stretch/>
          </p:blipFill>
          <p:spPr>
            <a:xfrm>
              <a:off x="0" y="1295280"/>
              <a:ext cx="5029200" cy="3702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2" name=""/>
            <p:cNvGrpSpPr/>
            <p:nvPr/>
          </p:nvGrpSpPr>
          <p:grpSpPr>
            <a:xfrm>
              <a:off x="991440" y="1649520"/>
              <a:ext cx="1533240" cy="663840"/>
              <a:chOff x="991440" y="1649520"/>
              <a:chExt cx="1533240" cy="663840"/>
            </a:xfrm>
          </p:grpSpPr>
          <p:grpSp>
            <p:nvGrpSpPr>
              <p:cNvPr id="373" name=""/>
              <p:cNvGrpSpPr/>
              <p:nvPr/>
            </p:nvGrpSpPr>
            <p:grpSpPr>
              <a:xfrm>
                <a:off x="991440" y="1649520"/>
                <a:ext cx="687240" cy="566280"/>
                <a:chOff x="991440" y="1649520"/>
                <a:chExt cx="687240" cy="56628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991440" y="1649520"/>
                  <a:ext cx="500040" cy="566280"/>
                </a:xfrm>
                <a:prstGeom prst="star5">
                  <a:avLst/>
                </a:prstGeom>
                <a:noFill/>
                <a:ln w="284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303920" y="1880640"/>
                  <a:ext cx="206640" cy="146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1303920" y="1899360"/>
                  <a:ext cx="206640" cy="1461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1190520" y="1830240"/>
                  <a:ext cx="488160" cy="262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ff0000"/>
                      </a:solidFill>
                      <a:latin typeface="Times New Roman"/>
                    </a:rPr>
                    <a:t>ST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>
                <a:off x="1383840" y="200628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99"/>
                    </a:solidFill>
                    <a:latin typeface="Comic Sans MS"/>
                  </a:rPr>
                  <a:t>Prelimina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8182-F632-4DF4-BDD2-7EC1B762AD4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clusions II: Penetrating Probes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87631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m: open and hidd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 Electrons: derived open charm follows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bina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/Psi: measurement made, definitive conclusions await further statisti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es of partonic energy lo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ed: Suppression of hadron yields relative to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bin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some puzzles in hadron content (baryon/mes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ed: Saturation of 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ve ~2-3 GeV/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turates surface emission calcul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ablished: azimuthal correlations contain je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ear signal found in correl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appearance of away-side jet in central coll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Consistent picture of surface emission + opacity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Need consistent theoretical treatment (shadowing, k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, etc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Need d+Au as true baseline reference: RHIC run 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7696080" y="2895480"/>
            <a:ext cx="1182600" cy="2304720"/>
            <a:chOff x="7696080" y="2895480"/>
            <a:chExt cx="1182600" cy="2304720"/>
          </a:xfrm>
        </p:grpSpPr>
        <p:sp>
          <p:nvSpPr>
            <p:cNvPr id="382" name=""/>
            <p:cNvSpPr/>
            <p:nvPr/>
          </p:nvSpPr>
          <p:spPr>
            <a:xfrm>
              <a:off x="7696080" y="3459240"/>
              <a:ext cx="1182600" cy="174096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814160" y="3678120"/>
              <a:ext cx="905760" cy="13266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8402400" y="3211200"/>
              <a:ext cx="77400" cy="34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8480160" y="2895480"/>
              <a:ext cx="4032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8402040" y="2895480"/>
              <a:ext cx="3852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8520480" y="2970360"/>
              <a:ext cx="118080" cy="1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402400" y="3602520"/>
              <a:ext cx="0" cy="303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204760" y="3918240"/>
              <a:ext cx="244080" cy="360000"/>
            </a:xfrm>
            <a:custGeom>
              <a:avLst/>
              <a:gdLst/>
              <a:ahLst/>
              <a:rect l="l" t="t" r="r" b="b"/>
              <a:pathLst>
                <a:path w="296" h="456">
                  <a:moveTo>
                    <a:pt x="240" y="0"/>
                  </a:moveTo>
                  <a:cubicBezTo>
                    <a:pt x="164" y="48"/>
                    <a:pt x="88" y="96"/>
                    <a:pt x="96" y="144"/>
                  </a:cubicBezTo>
                  <a:cubicBezTo>
                    <a:pt x="104" y="192"/>
                    <a:pt x="296" y="240"/>
                    <a:pt x="288" y="288"/>
                  </a:cubicBezTo>
                  <a:cubicBezTo>
                    <a:pt x="280" y="336"/>
                    <a:pt x="96" y="408"/>
                    <a:pt x="48" y="432"/>
                  </a:cubicBezTo>
                  <a:cubicBezTo>
                    <a:pt x="0" y="456"/>
                    <a:pt x="0" y="444"/>
                    <a:pt x="0" y="432"/>
                  </a:cubicBezTo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8049600" y="4179600"/>
              <a:ext cx="316440" cy="4597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512-F9C0-4CE8-B5B1-509B1157296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Basics: N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ch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0" y="1371600"/>
            <a:ext cx="441972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66"/>
                </a:solidFill>
                <a:latin typeface="Arial"/>
              </a:rPr>
              <a:t>Consistency of RHIC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HEN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C,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STA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HOB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 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BRAHM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 &amp; Sci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685800"/>
            <a:ext cx="4222440" cy="5562720"/>
            <a:chOff x="0" y="685800"/>
            <a:chExt cx="4222440" cy="5562720"/>
          </a:xfrm>
        </p:grpSpPr>
        <p:pic>
          <p:nvPicPr>
            <p:cNvPr id="83" name="" descr=""/>
            <p:cNvPicPr/>
            <p:nvPr/>
          </p:nvPicPr>
          <p:blipFill>
            <a:blip r:embed="rId1"/>
            <a:stretch/>
          </p:blipFill>
          <p:spPr>
            <a:xfrm>
              <a:off x="0" y="685800"/>
              <a:ext cx="4222440" cy="55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701640" y="2639880"/>
              <a:ext cx="1698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HENIX &amp; ST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prelimina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008720" y="1705320"/>
              <a:ext cx="76680" cy="751320"/>
              <a:chOff x="1008720" y="1705320"/>
              <a:chExt cx="76680" cy="751320"/>
            </a:xfrm>
          </p:grpSpPr>
          <p:sp>
            <p:nvSpPr>
              <p:cNvPr id="86" name=""/>
              <p:cNvSpPr/>
              <p:nvPr/>
            </p:nvSpPr>
            <p:spPr>
              <a:xfrm>
                <a:off x="1008720" y="2038680"/>
                <a:ext cx="76680" cy="7524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047240" y="1705320"/>
                <a:ext cx="0" cy="7513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3690720" y="1160280"/>
              <a:ext cx="77040" cy="450720"/>
              <a:chOff x="3690720" y="1160280"/>
              <a:chExt cx="77040" cy="450720"/>
            </a:xfrm>
          </p:grpSpPr>
          <p:sp>
            <p:nvSpPr>
              <p:cNvPr id="89" name=""/>
              <p:cNvSpPr/>
              <p:nvPr/>
            </p:nvSpPr>
            <p:spPr>
              <a:xfrm>
                <a:off x="3690720" y="1352520"/>
                <a:ext cx="77040" cy="748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729240" y="1160280"/>
                <a:ext cx="0" cy="4507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3103920" y="1366920"/>
              <a:ext cx="76680" cy="450720"/>
              <a:chOff x="3103920" y="1366920"/>
              <a:chExt cx="76680" cy="450720"/>
            </a:xfrm>
          </p:grpSpPr>
          <p:sp>
            <p:nvSpPr>
              <p:cNvPr id="92" name=""/>
              <p:cNvSpPr/>
              <p:nvPr/>
            </p:nvSpPr>
            <p:spPr>
              <a:xfrm>
                <a:off x="3103920" y="1559160"/>
                <a:ext cx="76680" cy="748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142080" y="1366920"/>
                <a:ext cx="0" cy="4507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2172960" y="1587600"/>
              <a:ext cx="76680" cy="450720"/>
              <a:chOff x="2172960" y="1587600"/>
              <a:chExt cx="76680" cy="450720"/>
            </a:xfrm>
          </p:grpSpPr>
          <p:sp>
            <p:nvSpPr>
              <p:cNvPr id="95" name=""/>
              <p:cNvSpPr/>
              <p:nvPr/>
            </p:nvSpPr>
            <p:spPr>
              <a:xfrm>
                <a:off x="2172960" y="1779840"/>
                <a:ext cx="76680" cy="748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11120" y="1587600"/>
                <a:ext cx="0" cy="4507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697400" y="1667520"/>
              <a:ext cx="77040" cy="450720"/>
              <a:chOff x="1697400" y="1667520"/>
              <a:chExt cx="77040" cy="450720"/>
            </a:xfrm>
          </p:grpSpPr>
          <p:sp>
            <p:nvSpPr>
              <p:cNvPr id="98" name=""/>
              <p:cNvSpPr/>
              <p:nvPr/>
            </p:nvSpPr>
            <p:spPr>
              <a:xfrm>
                <a:off x="1697400" y="1859760"/>
                <a:ext cx="77040" cy="748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735920" y="1667520"/>
                <a:ext cx="0" cy="4507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715840" y="1437480"/>
              <a:ext cx="77040" cy="450720"/>
              <a:chOff x="2715840" y="1437480"/>
              <a:chExt cx="77040" cy="450720"/>
            </a:xfrm>
          </p:grpSpPr>
          <p:sp>
            <p:nvSpPr>
              <p:cNvPr id="101" name=""/>
              <p:cNvSpPr/>
              <p:nvPr/>
            </p:nvSpPr>
            <p:spPr>
              <a:xfrm>
                <a:off x="2715840" y="1629720"/>
                <a:ext cx="77040" cy="74880"/>
              </a:xfrm>
              <a:prstGeom prst="ellipse">
                <a:avLst/>
              </a:pr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754360" y="1437480"/>
                <a:ext cx="0" cy="4507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4920480" y="2989440"/>
            <a:ext cx="32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Ratio R(200/1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HM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ENIX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7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.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OBOS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4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.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19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sy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648320" y="4800600"/>
            <a:ext cx="4278240" cy="135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DF10-F634-4EC8-9A00-A350BDBF7FC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Basics:  Total Multiplicity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38862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Multiplicity (not y=0) scales with 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par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esting observation from Phobos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 sa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√s, 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+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as same 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/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par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s Au-Au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+p needs a rescaling of √s by ~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2008" t="6783" r="8039" b="1698"/>
          <a:stretch/>
        </p:blipFill>
        <p:spPr>
          <a:xfrm>
            <a:off x="0" y="685800"/>
            <a:ext cx="4952880" cy="2936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0" t="4530" r="0" b="0"/>
          <a:stretch/>
        </p:blipFill>
        <p:spPr>
          <a:xfrm>
            <a:off x="5638680" y="762120"/>
            <a:ext cx="3505320" cy="32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A261-D5C0-476A-A514-0D2EE58AB6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4114440"/>
            <a:ext cx="5867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A-A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pproach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p+p (with rescal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√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above SPS energ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: only in this simple quant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, &lt;pt&gt; shows no simple sca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to look in momentum spa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7982" r="0" b="0"/>
          <a:stretch/>
        </p:blipFill>
        <p:spPr>
          <a:xfrm>
            <a:off x="0" y="762120"/>
            <a:ext cx="4876920" cy="33033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582360" y="1447920"/>
            <a:ext cx="65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Arial"/>
              </a:rPr>
              <a:t>p-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e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Basics: Universal Scaling with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Times New Roman"/>
              </a:rPr>
              <a:t>√s?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914400"/>
            <a:ext cx="350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PHOBOS Prelim. Central Au+A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9040" y="281952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Arial"/>
              </a:rPr>
              <a:t>Central 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0" t="0" r="0" b="1852"/>
          <a:stretch/>
        </p:blipFill>
        <p:spPr>
          <a:xfrm>
            <a:off x="5365800" y="990720"/>
            <a:ext cx="377820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8FA-8228-40E0-B88A-B32A2DA6BD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obing Thermalization: v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2880" y="5486400"/>
            <a:ext cx="53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tions that hydrodynamic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ached: early thermaliz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2749680" cy="4317840"/>
          </a:xfrm>
          <a:prstGeom prst="rect">
            <a:avLst/>
          </a:prstGeom>
          <a:ln w="0">
            <a:noFill/>
          </a:ln>
        </p:spPr>
      </p:pic>
      <p:grpSp>
        <p:nvGrpSpPr>
          <p:cNvPr id="119" name=""/>
          <p:cNvGrpSpPr/>
          <p:nvPr/>
        </p:nvGrpSpPr>
        <p:grpSpPr>
          <a:xfrm>
            <a:off x="457200" y="1676520"/>
            <a:ext cx="1596600" cy="1331280"/>
            <a:chOff x="457200" y="1676520"/>
            <a:chExt cx="1596600" cy="1331280"/>
          </a:xfrm>
        </p:grpSpPr>
        <p:sp>
          <p:nvSpPr>
            <p:cNvPr id="120" name=""/>
            <p:cNvSpPr/>
            <p:nvPr/>
          </p:nvSpPr>
          <p:spPr>
            <a:xfrm>
              <a:off x="457200" y="2124360"/>
              <a:ext cx="983160" cy="88236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7575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78400" y="2124360"/>
              <a:ext cx="983160" cy="88236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74960" y="1676520"/>
              <a:ext cx="27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77320" y="2131920"/>
              <a:ext cx="537120" cy="875880"/>
            </a:xfrm>
            <a:prstGeom prst="ellipse">
              <a:avLst/>
            </a:prstGeom>
            <a:gradFill rotWithShape="0">
              <a:gsLst>
                <a:gs pos="0">
                  <a:srgbClr val="00cc00"/>
                </a:gs>
                <a:gs pos="50000">
                  <a:srgbClr val="006600"/>
                </a:gs>
                <a:gs pos="100000">
                  <a:srgbClr val="00cc00"/>
                </a:gs>
              </a:gsLst>
              <a:lin ang="108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52360" y="2582280"/>
              <a:ext cx="9014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152360" y="1891080"/>
              <a:ext cx="720" cy="68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438280" y="2286000"/>
                <a:ext cx="136224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191120" y="2438280"/>
                <a:ext cx="15523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⟨"/>
                            <m:endChr m:val="⟩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080" y="22849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64720" y="1751760"/>
            <a:ext cx="205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itial eccentric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7120" y="487584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SP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H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381600" y="3123360"/>
            <a:ext cx="4266360" cy="1753200"/>
            <a:chOff x="381600" y="3123360"/>
            <a:chExt cx="4266360" cy="1753200"/>
          </a:xfrm>
        </p:grpSpPr>
        <p:sp>
          <p:nvSpPr>
            <p:cNvPr id="132" name=""/>
            <p:cNvSpPr/>
            <p:nvPr/>
          </p:nvSpPr>
          <p:spPr>
            <a:xfrm>
              <a:off x="1295280" y="3123360"/>
              <a:ext cx="184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ydro Limit*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GP EOS, l&lt;&lt;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50640" y="3123360"/>
              <a:ext cx="14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w Densit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mit**, l~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1600" y="3690720"/>
              <a:ext cx="121248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dentifi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3124080"/>
              <a:ext cx="4190760" cy="1752480"/>
            </a:xfrm>
            <a:prstGeom prst="flowChartProcess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3733560"/>
              <a:ext cx="419076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24880" y="3770280"/>
              <a:ext cx="174276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K-cent. onl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K,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lt;2GeV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K, 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lt;1GeV/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29280" y="3809520"/>
              <a:ext cx="662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222200" y="4952880"/>
            <a:ext cx="3629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Teaney,Lauret,Shuryak nucl-th/011003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*Heiselberg&amp;Levy,PRC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9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2716 (199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38880" y="1904040"/>
            <a:ext cx="12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yd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9400" y="571500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ucl-ex/02060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8360" y="731880"/>
            <a:ext cx="781704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ier decomposition of final state momenta: 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&lt;cos (2(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)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RP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nd per-event from low 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ximal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ernate method (less sensitive to non-flow): 4-particle correla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6A65-4863-477D-825C-36F5EE4B395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rcRect l="0" t="0" r="0" b="5294"/>
          <a:stretch/>
        </p:blipFill>
        <p:spPr>
          <a:xfrm>
            <a:off x="0" y="3276720"/>
            <a:ext cx="2981160" cy="304776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apidity: Boost Invariance Test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5181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dN/d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inverse slope show falloff for |y|&gt;~ 0.5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ilarity of shape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DL?  Or changing &lt;pT&gt;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ost invariance, if exists, is limited to |y| &lt;~ 0.5-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61040" y="762120"/>
            <a:ext cx="3882960" cy="26287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09480" y="35053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B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267160" y="3429000"/>
            <a:ext cx="3876840" cy="29718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867280" y="11430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HOBO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867280" y="434340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HMS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l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rcRect l="0" t="4275" r="0" b="0"/>
          <a:stretch/>
        </p:blipFill>
        <p:spPr>
          <a:xfrm>
            <a:off x="3124080" y="3200400"/>
            <a:ext cx="2286000" cy="3048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505320" y="34290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imi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3ABC-F2EA-479C-BE19-3F647F9F20B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990720" y="3914280"/>
            <a:ext cx="7315200" cy="25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3920" indent="-223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st wave” parameterization (Sollfrank model) can approximately describe data (spectra + HB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but emission duration must be sm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20000"/>
              </a:lnSpc>
              <a:buClr>
                <a:srgbClr val="003399"/>
              </a:buClr>
              <a:buSzPct val="12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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0.6  (radial flow), T = 110 M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20000"/>
              </a:lnSpc>
              <a:buClr>
                <a:srgbClr val="003399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 = 13.5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fm (hard-sphe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3920" indent="-223920">
              <a:lnSpc>
                <a:spcPct val="120000"/>
              </a:lnSpc>
              <a:buClr>
                <a:srgbClr val="003399"/>
              </a:buClr>
              <a:buSzPct val="125000"/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emiss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1.5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 fm/c  (Gaussi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3352680"/>
            <a:ext cx="335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 PRL 87, 082301 (20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ENIX PRL 88 192302 (200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228600" y="838080"/>
            <a:ext cx="4648320" cy="2952720"/>
            <a:chOff x="228600" y="838080"/>
            <a:chExt cx="4648320" cy="295272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0" t="45556" r="0" b="0"/>
            <a:stretch/>
          </p:blipFill>
          <p:spPr>
            <a:xfrm>
              <a:off x="228600" y="838080"/>
              <a:ext cx="464832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1611360" y="2124000"/>
              <a:ext cx="230040" cy="241200"/>
            </a:xfrm>
            <a:prstGeom prst="star5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87720" y="2203560"/>
              <a:ext cx="230040" cy="241200"/>
            </a:xfrm>
            <a:prstGeom prst="star5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40040" y="2284560"/>
              <a:ext cx="231840" cy="241200"/>
            </a:xfrm>
            <a:prstGeom prst="star5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590920" y="2514600"/>
            <a:ext cx="2361240" cy="707760"/>
            <a:chOff x="2590920" y="2514600"/>
            <a:chExt cx="2361240" cy="707760"/>
          </a:xfrm>
        </p:grpSpPr>
        <p:sp>
          <p:nvSpPr>
            <p:cNvPr id="161" name=""/>
            <p:cNvSpPr/>
            <p:nvPr/>
          </p:nvSpPr>
          <p:spPr>
            <a:xfrm>
              <a:off x="2590920" y="2590920"/>
              <a:ext cx="181800" cy="152280"/>
            </a:xfrm>
            <a:prstGeom prst="star5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90920" y="2895480"/>
              <a:ext cx="181800" cy="152640"/>
            </a:xfrm>
            <a:prstGeom prst="ellipse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63080" y="2514600"/>
              <a:ext cx="208908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TAR</a:t>
              </a: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30 G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HENIX 130 G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990720" y="99072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ydro + RQM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Probing Thermalization: HBT Puzzle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76560" y="76212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BT radii pose serious difficulties for hydrodynamic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, PHENIX, PHOBOS all consist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6EA-B7EA-4DBC-80C6-A7D7C93A649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Blastwave Picture: Interpreting Spectra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hape of the various particle spectra teach us abou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inetic freeze-out temper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verse f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ronger the flow the less appropriate are simple exponential fi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odynamic models (a la Heinz/Kolb/Shuryak/Huovinen/Tean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ydro inspired parameterizations (Blastwav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astwave parameteriz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f. : E.Schnedermann et al, PRC48 (1993) 246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odifications by Snellings, Volosh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y successful in recent mon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ect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BT (incl. the Rout/Rside puzzl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lo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248520" y="3581280"/>
            <a:ext cx="2895480" cy="2438640"/>
            <a:chOff x="6248520" y="3581280"/>
            <a:chExt cx="2895480" cy="2438640"/>
          </a:xfrm>
        </p:grpSpPr>
        <p:pic>
          <p:nvPicPr>
            <p:cNvPr id="170" name="" descr=""/>
            <p:cNvPicPr/>
            <p:nvPr/>
          </p:nvPicPr>
          <p:blipFill>
            <a:blip r:embed="rId1"/>
            <a:srcRect l="0" t="5335" r="9335" b="5071"/>
            <a:stretch/>
          </p:blipFill>
          <p:spPr>
            <a:xfrm>
              <a:off x="6248520" y="3581280"/>
              <a:ext cx="289548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6589080" y="3799080"/>
              <a:ext cx="2171160" cy="2104920"/>
            </a:xfrm>
            <a:custGeom>
              <a:avLst/>
              <a:gdLst/>
              <a:ahLst/>
              <a:rect l="l" t="t" r="r" b="b"/>
              <a:pathLst>
                <a:path w="2448" h="2784">
                  <a:moveTo>
                    <a:pt x="144" y="48"/>
                  </a:moveTo>
                  <a:cubicBezTo>
                    <a:pt x="288" y="80"/>
                    <a:pt x="728" y="120"/>
                    <a:pt x="1008" y="288"/>
                  </a:cubicBezTo>
                  <a:cubicBezTo>
                    <a:pt x="1288" y="456"/>
                    <a:pt x="1608" y="752"/>
                    <a:pt x="1824" y="1056"/>
                  </a:cubicBezTo>
                  <a:cubicBezTo>
                    <a:pt x="2040" y="1360"/>
                    <a:pt x="2200" y="1840"/>
                    <a:pt x="2304" y="2112"/>
                  </a:cubicBezTo>
                  <a:cubicBezTo>
                    <a:pt x="2408" y="2384"/>
                    <a:pt x="2448" y="2592"/>
                    <a:pt x="2448" y="2688"/>
                  </a:cubicBezTo>
                  <a:cubicBezTo>
                    <a:pt x="2448" y="2784"/>
                    <a:pt x="2360" y="2720"/>
                    <a:pt x="2304" y="2688"/>
                  </a:cubicBezTo>
                  <a:cubicBezTo>
                    <a:pt x="2248" y="2656"/>
                    <a:pt x="2176" y="2624"/>
                    <a:pt x="2112" y="2496"/>
                  </a:cubicBezTo>
                  <a:cubicBezTo>
                    <a:pt x="2048" y="2368"/>
                    <a:pt x="1976" y="2064"/>
                    <a:pt x="1920" y="1920"/>
                  </a:cubicBezTo>
                  <a:cubicBezTo>
                    <a:pt x="1864" y="1776"/>
                    <a:pt x="1832" y="1720"/>
                    <a:pt x="1776" y="1632"/>
                  </a:cubicBezTo>
                  <a:cubicBezTo>
                    <a:pt x="1720" y="1544"/>
                    <a:pt x="1664" y="1488"/>
                    <a:pt x="1584" y="1392"/>
                  </a:cubicBezTo>
                  <a:cubicBezTo>
                    <a:pt x="1504" y="1296"/>
                    <a:pt x="1416" y="1152"/>
                    <a:pt x="1296" y="1056"/>
                  </a:cubicBezTo>
                  <a:cubicBezTo>
                    <a:pt x="1176" y="960"/>
                    <a:pt x="992" y="880"/>
                    <a:pt x="864" y="816"/>
                  </a:cubicBezTo>
                  <a:cubicBezTo>
                    <a:pt x="736" y="752"/>
                    <a:pt x="632" y="704"/>
                    <a:pt x="528" y="672"/>
                  </a:cubicBezTo>
                  <a:cubicBezTo>
                    <a:pt x="424" y="640"/>
                    <a:pt x="304" y="632"/>
                    <a:pt x="240" y="624"/>
                  </a:cubicBezTo>
                  <a:cubicBezTo>
                    <a:pt x="176" y="616"/>
                    <a:pt x="160" y="712"/>
                    <a:pt x="144" y="624"/>
                  </a:cubicBezTo>
                  <a:cubicBezTo>
                    <a:pt x="128" y="536"/>
                    <a:pt x="144" y="192"/>
                    <a:pt x="144" y="96"/>
                  </a:cubicBezTo>
                  <a:cubicBezTo>
                    <a:pt x="144" y="0"/>
                    <a:pt x="0" y="16"/>
                    <a:pt x="144" y="48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7994520" y="4561560"/>
              <a:ext cx="213120" cy="29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048520" y="4632840"/>
              <a:ext cx="213120" cy="327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543440" y="3902760"/>
              <a:ext cx="540000" cy="13824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06760" y="3687480"/>
              <a:ext cx="10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ff"/>
                  </a:solidFill>
                  <a:latin typeface="Times New Roman"/>
                </a:rPr>
                <a:t>spectra (</a:t>
              </a:r>
              <a:r>
                <a:rPr b="0" lang="en-US" sz="1600" spc="-1" strike="noStrike">
                  <a:solidFill>
                    <a:srgbClr val="0066ff"/>
                  </a:solidFill>
                  <a:latin typeface="Symbol"/>
                  <a:ea typeface="Symbol"/>
                </a:rPr>
                <a:t></a:t>
              </a:r>
              <a:r>
                <a:rPr b="0" lang="en-US" sz="1600" spc="-1" strike="noStrike">
                  <a:solidFill>
                    <a:srgbClr val="0066ff"/>
                  </a:solidFill>
                  <a:latin typeface="Times New Roman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165800" y="5190840"/>
              <a:ext cx="430920" cy="93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797880" y="520380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HB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8447040" y="6417360"/>
            <a:ext cx="491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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ames C Dunlop RHIC Review ISMD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A3AA-5683-4982-BE6A-1C5073E5CD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Sept. 9, 2002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7T02:56:10Z</dcterms:created>
  <dc:creator>Bill Christie</dc:creator>
  <dc:description/>
  <dc:language>en-US</dc:language>
  <cp:lastModifiedBy>Blah</cp:lastModifiedBy>
  <cp:lastPrinted>2002-02-06T17:14:59Z</cp:lastPrinted>
  <dcterms:modified xsi:type="dcterms:W3CDTF">2002-09-09T09:29:19Z</dcterms:modified>
  <cp:revision>215</cp:revision>
  <dc:subject/>
  <dc:title>Using Datase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9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sol.star.bnl.gov/~genevb/a</vt:lpwstr>
  </property>
  <property fmtid="{D5CDD505-2E9C-101B-9397-08002B2CF9AE}" pid="9" name="LinkColor">
    <vt:r8>16711782</vt:r8>
  </property>
  <property fmtid="{D5CDD505-2E9C-101B-9397-08002B2CF9AE}" pid="10" name="MailAddress">
    <vt:lpwstr>gene@bnl.gov</vt:lpwstr>
  </property>
  <property fmtid="{D5CDD505-2E9C-101B-9397-08002B2CF9AE}" pid="11" name="NavBtnPos">
    <vt:r8>1</vt:r8>
  </property>
  <property fmtid="{D5CDD505-2E9C-101B-9397-08002B2CF9AE}" pid="12" name="Other">
    <vt:lpwstr>UCLA, STAR Collaboration</vt:lpwstr>
  </property>
  <property fmtid="{D5CDD505-2E9C-101B-9397-08002B2CF9AE}" pid="13" name="OutputDir">
    <vt:lpwstr>L:\WWW\tut1</vt:lpwstr>
  </property>
  <property fmtid="{D5CDD505-2E9C-101B-9397-08002B2CF9AE}" pid="14" name="ScreenSize">
    <vt:r8>3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