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6840" y="243648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26840" y="492336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6840" y="243648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7200" y="243648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26840" y="492336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7200" y="492336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6840" y="24364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37080" y="24364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47320" y="24364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26840" y="49233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37080" y="49233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47320" y="49233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26840" y="243648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6840" y="243648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6840" y="243648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7200" y="243648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6840" y="243648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7200" y="243648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26840" y="492336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6840" y="243648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7200" y="243648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7200" y="492336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6840" y="243648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7200" y="243648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6840" y="492336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6840" y="243648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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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2" marL="107964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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3" marL="136692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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4" marL="1655640" indent="-43164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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5" marL="1655640" indent="-43164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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6" marL="1655640" indent="-43164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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6160" y="882720"/>
            <a:ext cx="8607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Lucida (CE)"/>
              </a:rPr>
              <a:t>Analytic Calculation of Bose-Einstein correlations at LEP1 and at LEP2</a:t>
            </a:r>
            <a:r>
              <a:rPr b="1" lang="en-GB" sz="3200" spc="-1" strike="noStrike">
                <a:solidFill>
                  <a:srgbClr val="000080"/>
                </a:solidFill>
                <a:latin typeface="Lucida (CE)"/>
              </a:rPr>
              <a:t> </a:t>
            </a:r>
            <a:br>
              <a:rPr sz="1400"/>
            </a:br>
            <a:r>
              <a:rPr b="1" lang="en-GB" sz="1400" spc="-1" strike="noStrike">
                <a:solidFill>
                  <a:srgbClr val="000080"/>
                </a:solidFill>
                <a:latin typeface="Lucida (CE)"/>
              </a:rPr>
              <a:t> </a:t>
            </a:r>
            <a:br>
              <a:rPr sz="1400"/>
            </a:br>
            <a:r>
              <a:rPr b="1" lang="en-GB" sz="2000" spc="-1" strike="noStrike">
                <a:solidFill>
                  <a:srgbClr val="0000ff"/>
                </a:solidFill>
                <a:latin typeface="Lucidabright (CE)"/>
              </a:rPr>
              <a:t>T. Csörgõ</a:t>
            </a:r>
            <a:br>
              <a:rPr sz="1400"/>
            </a:br>
            <a:br>
              <a:rPr sz="2000"/>
            </a:br>
            <a:r>
              <a:rPr b="1" lang="en-GB" sz="1600" spc="-1" strike="noStrike">
                <a:solidFill>
                  <a:srgbClr val="000080"/>
                </a:solidFill>
                <a:latin typeface="Arial"/>
              </a:rPr>
              <a:t>KFKI Research Institute for Particle and Nuclear Physics, Budapest, Hungary</a:t>
            </a:r>
            <a:endParaRPr b="1" lang="en-US" sz="16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40" name=""/>
          <p:cNvSpPr/>
          <p:nvPr/>
        </p:nvSpPr>
        <p:spPr>
          <a:xfrm>
            <a:off x="1419120" y="3376440"/>
            <a:ext cx="73915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03280" indent="-432000">
              <a:lnSpc>
                <a:spcPct val="100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;Helvetica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;Helvetica"/>
              </a:rPr>
              <a:t>Bose-Einstein correlations in e</a:t>
            </a:r>
            <a:r>
              <a:rPr b="0" lang="en-GB" sz="2200" spc="-1" strike="noStrike" baseline="33000">
                <a:solidFill>
                  <a:srgbClr val="ff00ff"/>
                </a:solidFill>
                <a:latin typeface="Arial;Helvetica"/>
              </a:rPr>
              <a:t>+</a:t>
            </a:r>
            <a:r>
              <a:rPr b="0" lang="en-GB" sz="2200" spc="-1" strike="noStrike">
                <a:solidFill>
                  <a:srgbClr val="ff00ff"/>
                </a:solidFill>
                <a:latin typeface="Arial;Helvetica"/>
              </a:rPr>
              <a:t>e</a:t>
            </a:r>
            <a:r>
              <a:rPr b="0" lang="en-GB" sz="2200" spc="-1" strike="noStrike" baseline="33000">
                <a:solidFill>
                  <a:srgbClr val="ff00ff"/>
                </a:solidFill>
                <a:latin typeface="Arial;Helvetica"/>
              </a:rPr>
              <a:t>-</a:t>
            </a:r>
            <a:r>
              <a:rPr b="0" lang="en-GB" sz="2200" spc="-1" strike="noStrike">
                <a:solidFill>
                  <a:srgbClr val="ff00ff"/>
                </a:solidFill>
                <a:latin typeface="Arial;Helvetica"/>
              </a:rPr>
              <a:t>and Q</a:t>
            </a:r>
            <a:r>
              <a:rPr b="0" lang="en-GB" sz="2200" spc="-1" strike="noStrike" baseline="-33000">
                <a:solidFill>
                  <a:srgbClr val="ff00ff"/>
                </a:solidFill>
                <a:latin typeface="Arial"/>
              </a:rPr>
              <a:t>in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;Helvetica"/>
              </a:rPr>
              <a:t>x-p correlations in the </a:t>
            </a:r>
            <a:r>
              <a:rPr b="0" lang="en-GB" sz="2200" spc="-1" strike="noStrike">
                <a:solidFill>
                  <a:srgbClr val="ff00ff"/>
                </a:solidFill>
                <a:latin typeface="Standard Symbols L"/>
              </a:rPr>
              <a:t>t</a:t>
            </a:r>
            <a:r>
              <a:rPr b="0" lang="en-GB" sz="2200" spc="-1" strike="noStrike">
                <a:solidFill>
                  <a:srgbClr val="ff00ff"/>
                </a:solidFill>
                <a:latin typeface="Arial;Helvetica"/>
              </a:rPr>
              <a:t>-mod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;Helvetica"/>
              </a:rPr>
              <a:t>Spectra and correlations at LE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;Helvetica"/>
              </a:rPr>
              <a:t>Spectra and correlations at LEP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;Helvetica"/>
              </a:rPr>
              <a:t>Summary and Outlo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;Helvetica"/>
              </a:rPr>
              <a:t>Dedicated to the memory of Bo Anders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8"/>
          <a:stretch/>
        </p:blipFill>
        <p:spPr>
          <a:xfrm>
            <a:off x="7408800" y="4537080"/>
            <a:ext cx="2113200" cy="1932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92320" y="-628560"/>
            <a:ext cx="5735520" cy="81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03240" y="-747720"/>
            <a:ext cx="5905800" cy="83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2160" y="-642960"/>
            <a:ext cx="5870520" cy="815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78240" y="0"/>
            <a:ext cx="534960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6280" y="-241200"/>
            <a:ext cx="5349960" cy="75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680" y="560520"/>
            <a:ext cx="5349960" cy="7557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1378080"/>
            <a:ext cx="5008680" cy="405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77280" y="5867280"/>
            <a:ext cx="6593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ies 1)-8) are satisfied by the functional form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having to specify H(</a:t>
            </a:r>
            <a:r>
              <a:rPr b="0" lang="en-GB" sz="2400" spc="-1" strike="noStrike">
                <a:solidFill>
                  <a:srgbClr val="000000"/>
                </a:solidFill>
                <a:latin typeface="Standard Symbols L"/>
              </a:rPr>
              <a:t>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N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30280" y="4680"/>
            <a:ext cx="534996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22600" y="-3240"/>
            <a:ext cx="5349960" cy="755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2023920"/>
            <a:ext cx="269388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10360" y="509760"/>
            <a:ext cx="4171680" cy="5144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1480" y="1266840"/>
            <a:ext cx="4132440" cy="2531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29760" y="4116240"/>
            <a:ext cx="375084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da-Lund (hydro) pi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ilar to Bertsch-Pratt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t from </a:t>
            </a:r>
            <a:r>
              <a:rPr b="0" lang="en-GB" sz="2400" spc="-1" strike="noStrike">
                <a:solidFill>
                  <a:srgbClr val="000000"/>
                </a:solidFill>
                <a:latin typeface="Standard Symbols 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od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ariant relative mo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nents (Qn, Qxn, Q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no Qinv 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7920" y="6343560"/>
            <a:ext cx="433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alas-Zalewski picture: diffe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Qinv 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460440" y="-3622680"/>
            <a:ext cx="7215120" cy="9612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282600" y="3770280"/>
            <a:ext cx="10078920" cy="254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776920" y="271440"/>
            <a:ext cx="3989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7560" y="-444600"/>
            <a:ext cx="7488360" cy="923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68800" y="6472080"/>
            <a:ext cx="4336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. Cs, J. Zimany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cl. Phys. A517 (1990) 5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681120" y="-917640"/>
            <a:ext cx="7058160" cy="911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10440" y="3843360"/>
            <a:ext cx="3600360" cy="3532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73720" y="728640"/>
            <a:ext cx="37022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85680" y="-271440"/>
            <a:ext cx="6003720" cy="7751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42080" y="3052800"/>
            <a:ext cx="3600360" cy="353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805360" y="189000"/>
            <a:ext cx="3702240" cy="2944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18880" y="6759720"/>
            <a:ext cx="373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 W. Kittel, hep-ph/01100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70360" y="9360"/>
            <a:ext cx="5349960" cy="755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42840" y="-3240"/>
            <a:ext cx="534996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2640" y="-770040"/>
            <a:ext cx="6024600" cy="815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19440" y="-747720"/>
            <a:ext cx="6006960" cy="83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08160" y="-765000"/>
            <a:ext cx="5850000" cy="83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08:05:28Z</dcterms:created>
  <dc:creator> </dc:creator>
  <dc:description>Template for a scholarly presentation at a university. The pages of this sample document can be printed and copied to overhead transparencies.</dc:description>
  <dc:language>en-US</dc:language>
  <cp:lastModifiedBy>Tamas Csorgo</cp:lastModifiedBy>
  <cp:revision>0</cp:revision>
  <dc:subject/>
  <dc:title>Academic Presentation</dc:title>
</cp:coreProperties>
</file>